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F748-285C-482D-BBA0-64FE7A887F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CA95-3FE8-47AD-9BE7-E43C0F2104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2152-D520-4D28-86E7-6E48CFEAD2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CAD739-9AF2-4E06-9533-0A80A803BF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4D0B-5FDA-457A-8395-A27146A5F3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C65B-24E2-4E87-BB46-64FEF371F5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650C-0568-44B4-829A-FE7124A5C7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586B-4E5B-40E0-856A-FAD7CD5A89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BEC3-F086-48B4-A52B-C5CED3F4D2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30E9-0F02-46A0-BF75-D24FE44189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58FE-F43A-4DE2-92BF-9F412DA521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E12A-18DC-4231-9CC7-CF0EC7D203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FAA6-0A47-4CB0-ACE0-659F53A86B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7278-F364-429F-AFA8-CF9B0E47C4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6148-A7A3-4858-9A2C-4B3C24319E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7CE6BC0-8790-49C9-AEEA-2DCCDFE7CF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ADD8-27A6-44F6-B1B6-A25E76E250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5612-CE71-4D61-8A1B-4D47E09859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DE95-5B6E-46DD-8E4D-943624D107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CBCE-464D-42BC-815F-F77740AF36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7E7A-B34B-4E42-A01B-6610292270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8DC2-34B1-4185-ACE0-403F2688B1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8AA6-9C52-492D-BC30-3080397357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9337-5C2F-42E9-857A-D91B641375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7152-3C8E-46DD-95DE-9720217C90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9112-16FE-4612-B557-4BB7D213C9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2272-DCB5-4A13-9C7A-706514C9EB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11F3-BED4-4E37-B548-AF92EEC075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984A-0E01-42A7-A25C-825B604F2C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FD50-EEA8-4F06-AD18-A0B3AD246B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1987-A9FC-4C4C-AB34-FC5C643AFE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9D74-5DBC-4DB6-AA0C-5A98A9ABC1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935B-462B-4C91-876C-CB524BDBD8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393B-2BB4-4BEF-B1A8-ECF38063DE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77C4-F754-454A-B241-6A1CAC7950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AD8B-14C0-4E82-BBD8-7EDCB25D7D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2D75-F694-4E48-8EB4-BD49685F34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195E-9899-4A19-A7EF-03C99FE058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6ECE-2281-45FB-9100-468D4A4884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51BD-1A25-4C86-A70E-56C38C4BED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9856-D15F-4BA8-9EFE-D3073C520E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8AB0-8C46-49A1-902A-9809A61C1D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CD14-9733-4C5E-B7F5-16A20B5BE1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4556-57A5-4AAD-BF24-E1A9B7F46C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542E-B4D9-454D-9828-368F3A63A6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F750-4127-4AFA-99A3-0BB50C9C3A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9ED8-6E55-42FA-9E72-BD3B707D4F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16C0-A4F1-429F-8C46-F0EEBD97F9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BA3E-F04B-4F0C-A703-EC91D9D499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3F77-4BFF-4AC4-8764-38CEB4B636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E26E-747F-4AD3-B9AE-F389BB525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D181-0866-48B4-A6D1-67C1132421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A3DE-680F-41FA-AAEA-420CD64FB2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9EE3-1EE8-45FC-941D-EA1076BF753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E80228-7DB2-4BC5-9F6A-C5E1E19D05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FE77-047F-4065-9E39-4130AE2662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062D-2D10-4DCE-AF44-150B5F3B89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76F2-0C91-4DB9-9D1F-E0FAE6014C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654C-E5ED-4EAD-8AB0-853E8D0B28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2357B71-59E2-4DAB-9B1E-2483EF43E0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7062-5FB5-4570-BF6D-2F87E65EDE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BE989A1-E98D-40C9-AF54-89960CDB47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86B6-FA00-4546-A76E-5F8FBC545B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F75FE85-3F0F-4EDD-A2F8-32D6E0B171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93CC-8C85-4469-8235-A6AA78B9C7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96B4-D2B8-4860-BDE6-6CB6B50C33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268F1F-6A11-400D-B0E0-458CA854CB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4C05-F70A-4EE7-9411-5FE786B55F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CCEC34-8034-4F6B-80AE-68B6A1B735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FB09-CAA1-4F9E-806E-F16D4044FB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8FDB40-7381-45DA-AED2-C4FFC58811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ADC1-0C03-4E8C-9BA3-4B6070B7CC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BDFD1DF-57BF-4A3A-AE47-07705B5369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0C37-C8C1-4F21-BFAE-615C4B4B49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7E0F-6F51-4C5B-AAC7-6FF6C16BCD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85A36C2-B82E-443E-A09A-CDA85A4971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31E8-75F7-4708-A214-53E97DC399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00A4-58FE-4A7E-B444-E61743639F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08DB-78CD-4267-9836-1D9CA76E01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2A72-9526-45B5-812F-455B28BCC9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AB41-E898-4DC9-86EC-1F67D24A6D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612B-566B-4E99-A91D-D2987BDBB8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C74A-FD77-4C6D-A10F-8FB04A6012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2DF6BC-2B81-4244-A5DF-61DB81368C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DD0A-4845-4E91-AA1D-CA998B38B4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0956-7394-46A2-B6F9-75EBAA0175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83AB46A-4AF9-4900-BC8A-EB03D97780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B1BE-C370-4DFE-9A78-EC9C26B0A6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18AB996-180A-447C-A683-B4CB806C32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C1C1-A24B-48DD-B35F-105CE592A3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FDC2BA-0007-4B76-8857-2B36AAC5FB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E70E-FEB7-43E5-BE7A-87CFFA6E46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F1349A0-C366-4734-A004-1152BE2BD4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EB27-A769-4E39-AF88-652593EDA2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ED85AB-B776-4EB8-9A9D-5F634EF4C1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0320-E82F-464E-A56A-DA0C4834E0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2D54-6486-4DB4-8879-76E261422F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8AB4B3-830C-4599-8582-96AAA681A5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EB6B-BFEE-4030-8D65-9E8F98F5DF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AD79BC4-59C1-493C-A369-4297EDEA97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DC71-1F83-4621-A290-EEA1C54AC6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F371-4329-494D-A69D-E9F01025FC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4790-874A-4D8C-A449-1F43EF45D2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FC7C-5F08-4E99-ACD7-972FD68FFA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7240-09C8-4913-916A-4E3F5E7976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C250-EE48-4439-A3D0-B626D95008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6953-9244-41A2-89F4-D15425EE7D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3365-7721-4334-8764-64FC9CA524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5498-53C2-4E6F-A111-8BEF8661DC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2AD7-AAA6-41C8-9080-FE3B077A84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1B9A-3FD8-4199-ADFA-AD2AA3720C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430C-BA00-42CB-B8FB-9C5D965E6A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2944-AC7D-41A6-9539-0E332A1E8B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8624-0880-47F9-BD62-5880A5E200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E484-0869-44F2-A94F-ACDA37E90F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143A-B680-4FDB-9416-C24DEB51A9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4FCB-65D3-42F7-B917-3F8F928FEB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5A38-3F49-4DCA-9939-156BDBF28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AD32-9F74-415E-812C-F9541FEB18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237A-88F6-4518-8B83-EF596C9AD4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3C90-A30C-4FEB-9CA7-9C9D2F86C7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13DE-D327-4BFD-B5F1-CBEA8BFB69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AF95-160F-4859-BB12-37D47368F6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4373-C57F-401E-8BBF-C72EAEBAF2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1DDE-2E2E-46F7-82FE-B8DF9E63A2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4A48-D4C6-4BFA-8808-B9477127D3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20BE-F1BF-43FF-B640-4582C32D2B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E266-C684-421C-9065-5628BE0DDC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6F2F-8087-458A-94B8-9A07D011EB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3FBA-9F51-4B98-B01A-38F26209D0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AAC3-EDE2-411E-A143-53A458C524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5DBD-D75B-41CB-8073-67962364F7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124F-CE22-481E-836A-46E2CBDFFD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009B-4010-4C00-A135-B43C66702D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D761-B794-465C-9198-8C68CA08E2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78CD-030E-47E4-ACAC-12CFE4B532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52D7-408B-432D-B985-D3DA967A9D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6F99-69A8-4B6E-B58C-5BEC6A54BE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1D61-F56D-4C51-AA5B-E14F8BED64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526C-2FAA-4B85-BCB5-3ADFECC7F2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32E1-A1E0-436C-8BF9-89405DB409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085D-2E03-4C9F-B3CF-F030B8131B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A19E-6887-4718-A6A6-B12F13136A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A158-35B2-4B8C-A59D-2DD08A8510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E243-14E3-417E-AF97-403EBF6621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36BD-114A-4B5C-BC68-EB3F200945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CB2B-DBDB-4C6C-8C32-2528869E5B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D1B0-906A-4989-99B0-1FDE9DBD28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D93C78B-A3E2-447A-99F2-AC21C54173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B590-414A-4903-AA0F-F0D4F55DC7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9F6D-FEE0-43AD-9A81-1D61295339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1D02-56E9-422A-AB90-1E731DD055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973F-D138-4C8B-ACAE-4E767B1E47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03B8-B99C-43DB-BD8A-ACB741900B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53EF-97F5-4582-A91E-41B91D6A24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A33C-D74D-4262-A9B3-B80DA731DB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AA57-5065-4BB4-94E6-EF3FBFDA45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84FF-3108-4E11-B078-7285BA0D67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F17E-12C9-4AF0-AB45-BEF2F7E04F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D2311-6E10-4BA1-B3A5-9B4AE5BE8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115A-FD5A-4BAC-92E7-34A03114B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2EF97-285A-408F-9C88-49FB1BB8A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201DD-0711-4D5D-8B17-4EBBF57CD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3F620-1FAC-4F2E-ABD4-5A8F57849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03E53-FC5B-4506-B67A-4C124F01C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6D9A1-8462-494F-9ACF-C75CC5DF2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0AFA9-053C-43BC-9A1C-90BA2123F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F8321-2C9D-4DD6-A454-5D942CA90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C09B5-D9FF-49A6-8CD6-A7ACA718E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C42A0-B09D-4DC9-9724-112DA767B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E3249-238C-45DC-A94C-CC4E53896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114B3-8417-40C9-94AD-EE6FD166D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91BF4-4FC4-4EDE-A1C4-15BC3B08A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14EA4-BEA5-4913-BC0D-4F4C8A8AC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3C690-CD69-4425-9E79-5B26DB22D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358AF-40C5-4928-876C-E0FDC03FC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3D427E-3DEC-417E-A397-ED29E4F0B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62D7C-DF1A-4229-8F1A-EA536F62C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F4A78-3306-44FB-87E4-F86D15B66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93C3F-9392-434A-AA45-51BB4F8ED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DDBEB-55B5-4CC1-8D98-937F102FC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1657C-117B-49A3-BD7E-5C4D5A6BE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430BD-BEEA-4608-9FF0-3E9B8A822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DBD32-902C-4758-B337-90C189646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BB489-FBCC-4A86-802F-BE5A78BA8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FDC44-B23A-490A-B12E-4CA3614D0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3D19C-3810-4859-BFA1-F4A1927C7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099F7F-099F-477B-8FB5-0566C9983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807CFD-C2C2-4C6A-BAEB-AE41B6C70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50BD0-FFEA-41CA-8047-2A39D4350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89A7-B10C-4D0C-975C-546C12163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DDF6-6EAF-4C80-8ED3-0E3D5375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9CD7-4DCA-4CE7-9007-9BB2DB9D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3D81-C318-4A0E-B185-390A7AE11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C76F-765D-4F43-A1C9-7FBB42003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8B88-4347-495A-93FF-8E321115EDF4}"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AF2E-40F0-4E7B-8AA4-21F7CE7C2A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6753-24C6-47EC-83C9-B236900D5931}"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D464-B2B3-4685-8631-169D59E1B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4DE9-276E-4F2A-882A-9712C5C47E8B}" type="datetime">
              <a:rPr b="0" lang="ca-ES" sz="1200" spc="-1" strike="noStrike">
                <a:solidFill>
                  <a:srgbClr val="898989"/>
                </a:solidFill>
                <a:latin typeface="Calibri"/>
              </a:rPr>
              <a:t>31/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F139-604B-4413-B122-3515FAB68E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C66D-2C13-4814-B30B-E02FDCB416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6936-BC02-4E8C-96A2-E5866976F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C34F-A332-4D8F-A4C5-402B7AB30F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F61C-0251-436E-B3FD-071898015A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3A44-340E-432A-88AA-3530AD6375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D563-9736-4724-8823-4E1A33EC25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AE99-3893-4959-B9FE-BD12F743FC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15E9-7992-4D6F-AE07-BFAE7777DB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EF08-2DDD-4013-BE2A-55BCDD009B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DBDB-547C-4897-B4C9-43DE6ADCE1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C9B3-5B49-46E2-AF4B-3FA0486359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1000-C09E-4450-A2D6-7183F4ACD0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7535-C2FE-45A7-866C-9BD909F25E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80B8-DB36-4DF7-B02D-1DEAE6A26E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5420-E081-4A2A-884C-2008E8443A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E055-EA01-47C3-812D-9CA59ECE9B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91D6-4C4A-4F17-A9E7-5DC2FCB50A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E561-063D-4CAF-B0E0-31E2E01D27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E60A-4664-4703-8975-535E4B1B08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D3AE-48FB-458E-AEC4-55E7E8BC71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AE0E-9A20-41EE-946D-3ACC20BDA5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D28F-D15B-412C-8656-FBCCD7B8B3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0682-3C0C-44D7-A0FC-82860A760D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CF94-1C58-47B8-958C-EBDCE7CFDC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E662-C439-4534-B7FE-ACB0DE2642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BDB6-FF95-431E-BD48-08BECE0FE0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FBF0-4AA8-4CA6-A4E2-46C6E4D41A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0A4D-A53A-4794-8986-C90C202CE3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A343-E640-4BAD-B27B-E74A077060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29F1-7915-482F-976A-38CB971D5F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FFAF-77CA-454F-B4CB-4B87ACD761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CD35-C856-4BB0-81FB-6A92324706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A38E-174E-4B6F-A1A9-568C02552A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4173-3876-49FC-9F9F-3DE5A9D57D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B5DF-9406-4343-B147-6F4EBAC3E4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D52A-40B4-46BF-8E3D-B4F55EAA7A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6E20-D8B3-43F7-9369-1C6B3EC171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5E66-65FF-4131-99E1-9081FDB1D1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4C27-1D35-4D66-B6D5-7FC933B104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47B3-4CBE-40E1-AB14-1AA62AD2EB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2E76-351B-4D2B-BFAB-0CC300FA2D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2FC2-EC45-4DF7-B65D-D06DEC4D24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C7E0-0608-4BE8-ADC7-A233F1FA51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5E8B-B863-440A-8BC2-868B1C53DE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1D09-3ECC-4671-AA51-EE4DCEF7F8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F018-D1D8-4281-B7F1-9CD27C321B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F19B-1200-4F34-BE3E-CEF955F7EB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F02D-0D3D-4ADC-B8E0-0FA896DA59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8244-47FE-48E9-9488-E21C000CC5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9B89-3472-4C82-BE9E-8A06EB7792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B5AB-A62E-450F-890F-CCFD526D9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FC0E-DE40-4AA2-B74E-5CD5047CA6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925A-E9B4-4C83-81C8-74B01B4520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034F-D181-4C51-AA67-4ED26D8262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B8DA-2A77-4630-9105-417C0CEF6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3D5A-FD62-4C5E-9772-08EA159202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E16A-E3AA-4FD0-A7D7-5956888DF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FA68-46CA-4255-9927-4412E71EE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925E-031C-4CC1-9E5A-35C4502CB1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CADE-7EFD-4547-962C-E292D060B2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691A-544A-4B20-8ABC-03E5458CB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96F4-B906-44F6-86DC-2FD5B7FF8B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FD48-2D07-4D92-84E6-6CE4C3AD4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A23A-8B7A-4810-ACFF-EA942EDC8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2D6B-7D25-45C1-BE8A-34940188CE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4B76-D3B2-4BD9-9812-96F0FE5282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80FA-BA2D-4BC7-B64B-EC0C2A21D3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5CF1-383B-419B-A9BB-8142396CBC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3A07-931B-4573-B8CE-BD49E394CF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88C7-82A6-487F-ADBE-0C18F781B1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A677-7E66-4C2B-9E8A-F942AFA7B8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2BB8-E5C6-4A44-9C62-E595EF82E4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141E-BC9D-434E-A682-507F513D93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67C5-56AE-4706-B5F9-EC96DD29F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7C88-8F7E-445B-BF44-5A2F036B1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52C5-AC0D-4DB3-9A3D-299A99757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E7D8-AFA6-449D-9210-C344C0E04A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D13B-FB3F-4AC9-8358-47D861C3FD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8E71-7826-400F-BA16-B16F41302F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80E9-DDCD-461F-9493-2CC416348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969A-1F2F-4350-98ED-3C56E6099D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5C8C-4251-4586-8138-245213D49A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34CF-6532-4967-8652-931FEB3B5F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37E6-B926-4724-85E0-325F224125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BBEF-9AC3-45B2-AB5B-1C36F611EC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CB0F-B7B7-44B8-A142-F4F61A9CF9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99DD-4B1E-4410-AF37-9950F46B86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5FD5-72FD-412A-AD03-2F82FD57B4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0110-7775-4D53-A48B-48E5B2F5EE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7B7A-6FA1-4803-BEFA-D1B8EBC6E7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4181-6A4A-4690-A6EE-8B5A2B87C4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3450-D870-4BBD-BCBA-7E4F63CEFD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F5CF-D5E9-4F7A-A7A4-1CD6B8453D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85E2-F366-4B67-8129-0FB4B09974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8562-5CF7-4DB2-BF13-313F1A14E9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3C75-9D01-417D-8D47-CDC24A1F2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F737-E57A-4DDA-AF49-FC3978D8EB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DC9E-029A-49B6-B698-90A94314DF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6A0E-8BE7-4DA3-BBB2-448726EB1E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E7EA-54D6-4287-BD4E-081CA90091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FFDA-C3B3-417F-B8A1-3E51591012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7BE8-4749-411D-B3C0-D78657F406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8214-CBE9-4E39-91CE-B12C7668FB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6533-3C25-405F-911E-507D6DED88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B1FA-56CA-4198-8682-6D73A2565A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38BE-F339-4FAD-9124-F0EAA6FBAD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64B9-3338-441F-A4E5-D33B2C207C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42A5-4F3C-4560-BDCB-3A0F0FC499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0C16-C937-4CEA-9B5C-2B45515CE8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3374-FC91-4496-A208-016AF2943A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CF3D-B2BD-485F-AAC7-18845CA912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AC50-6A59-4E6F-9D40-9F88318EEA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725E-9206-4117-A2ED-914DE907DA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313D-0A5E-4506-B28A-F01E21FD16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D273-5BBA-4A90-8CEC-3D911B5B03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9E96-4C7C-4D28-8512-F368F6CDB6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5CDA-EC27-4550-85C8-DBEBC803E0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D608-619C-4021-99BF-6383D1E59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D123-4AD5-488A-B6B0-139F640E08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25B1-266F-4926-823D-6357CBFE65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71D6-AE37-4BBA-872D-A11652EA6A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E995-CC91-4977-9C8D-9E122EB58F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2030-9AD7-4110-9BC9-15BE9ED65A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2E3A-1545-453B-BB78-7252ED07EC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0AF5-D215-41A8-971D-423FB0FD41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4569-245A-48A3-8816-9C07FC4BF3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05EE-FFA1-4617-A9FD-B69E81D16B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AE37-D5CC-41A6-AD60-F105D4107D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EEC4-6F0E-4FA0-92D5-9403C0B671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DCD9-1603-448A-B575-F564F6C155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43F1-D64E-460D-8813-421EE0CA57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0F0D-5348-49C1-8EBC-445AAC122B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E7A7-893C-403B-9623-77619B47AB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37DA-7FEB-4DC4-93BD-1743C2BFE1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FE7C-87A2-4A30-A94A-23D355E91F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8A3A-5016-40C3-87D0-C14FEBA030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074A-A4CD-405B-97C1-B3D8D7FEC8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257F-4DA6-48A4-874D-2917A49E56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0286-EBE0-4FDD-8488-BAF24F8395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