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0360" y="766440"/>
            <a:ext cx="5118120" cy="3838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22333-379E-4D8B-9468-4E0314F766A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2C3CA-F389-4AB2-AF59-FF662D70FC8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Plantilles de catalogaci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es plantilles de Millennium estaran disponible amb els camps 336, 337, i 338 preestablertes. Podeu escollir la plantilla apropiada per al tipus de contingut del recurs i si es necessita més d'un d'aquests camps, podeu copiar els camps i després enganxar-l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B25CB-5FF0-49A8-BCA3-B701C6F20035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tensi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3.4 l'extensió és un ELEMENT BÀS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Fonts: Useu l’evidència presentada pel recurs mateix (o en qualsevol material d’acompanyament o contenidor) com a base per a enregistrar l’extensió del rec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RDA parla d'"unitat" (p. ex.; un volum) o de subunitats (p. ex., una pàgina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81598-4BBA-436D-82DE-396C6D4B3D75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nregistrament de l'extensió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’extensió és un </a:t>
            </a: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element bàsic només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el recurs és complet o si se’n sap l’extensi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registreu l'extensió d'un recurs donant el nombre d'unitats i un terme apropiat per al tipus de suport, d'acord a la llista d'RDA 3.3.1.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el terme no està a la llista, enregistreu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peces diverses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és apropiat, o un terme d'ús comú. (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En aquest cas aviseu a fi de recollir-ho en concreció per a l'ús d'altres institucions)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registreu el terme en singular o plural segons correspongui. Si el recurs consta de més d'un tipus de suport físic, enregistreu el número corresponent a cada tip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F09A9-5D5A-4AAA-856B-6674EAB2E78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tensió  de recursos específic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3.4.2-3.4.6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dóna instruccions especials per a materials cartogràfics, música notada, imatges fixes, textos i objectes tridimensionals. No entrarem a comentar cadascuna d'aquestes instruccions, tanmateix fixeu-vos en els exemples que no hi ha abreviatures. Aquest és un dels canvis d'RDA respecte a les AACR2  o ISB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560ED-9C80-474C-B1BB-1EB6CA2C8C64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'extensió està tractada sota cada tipus de recurs. Veurem algun exemples de dels recursos que són "text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002D3-D095-44A0-BA2B-02E183BDDDC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tensió del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RDA 3.4.5.2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Un volum sol amb les pàgines, els fulls o les columnes numera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Per a un recurs d'un sol volum, enregistreu l'extensió en termes de pàgines, fulls o columnes, segons correspongui, aplicant les instruccions general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Si el volum està paginat (si les pàgines tenen números en ambdós costats dels fulls), enregistreu el nombre de pàgi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Si el volum està foliat (si els fulls estan numerats en un sol costat), enregistreu el nombre de fu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Si el volum consta de pàgines amb més d'una columna per pàgina, i les columnes estan numerades, enregistreu el nombre de colum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Si el volum té seqüències de fulls i pàgines, o pàgines i columnes numerats, o fulls i columnes numerades, enregistreu cada seqüènc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3.4.5.3 Un volum sol amb les pàgines, els fulls o les columnes no numerats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(RDA 3.4.5.3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Tot i que RDA dóna tres opcions per a aquestes situacions, la </a:t>
            </a: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Concreció 3.4.5.3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segueix la pràctica d'aplicar "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el mètode c) 1 volum (no paginat)" excepte 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per a recursos impresos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ntics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es instruccions d'RDA 3.4.5 recullen casuístiques de "extensió", incloent canvis en la forma de la numeració dins d'una seqüència, numeració errònia, volums incomplets, paginació complexa o irregular, fulls o pàgines de làmines, més d'un volum, volums amb paginació contínua, actualització de fulls solts, i altres situac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Per a la paginació complexa o irregular la</a:t>
            </a: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 Concreció 3.4.5.8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segueix la pràctica d'aplicar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"el mètode c)  1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  <a:ea typeface="Courier New"/>
              </a:rPr>
              <a:t> volum (paginació múltiple)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E8873-2DF5-41A4-BA1E-50C816DF8195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No entrarem a comentar cadascun, tanmateix fixeu-vos que no s'utilitzen claudàtors per a les pàgines, etc. no numerades, ni les abreviatures "ca.", "i.e.", 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D5F8F-1861-4A7B-B5BB-0E32C5B505D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Principals canvis relacionats amb l'extensió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No utitizar abreviatures per als termes com per exemple, "pàgines," "volums", (no "p.", "vol.", "v."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Utilitzar "aproximadament" (en lloc de "ca.") i "és a dir" (en lloc de "i.e."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Utilitzar "pàgines no numerades", "fulls no numerats", etc. en lloc de donar els números entre claudà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També cal anar amb compte amb els canvis en el vocabulari, ex: "partitura guió" s'usa tant, per a la "partitura guió" com per a la "partitura reduïda". Consulteu RDA 3.3.1.3, 3.4.2 -3.4.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EB0D8-AC68-4098-8A0B-BBC76060DF1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Dimen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3.5 les dimensions són un ELEMENT BÀSIC PER A LA BC I EL CCUC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excepte en el cas de publicacions en sèrie i recursos en lín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es dimensions són un altre element de la descripció del suport d'una manifestació. En el cas de publicacions en sèrie és opcional, si es considera es poden dona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es dimensions són les mesures del suport físic o dels suports físics i/o del contenidor d’un recurs. Les dimensions inclouen les mesures d’alçada, amplada, profunditat, llargada, format i diàmet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registreu les dimensions en centímetres arrodonits al següent centímetre complet, usant el símbol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cm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(ex., 17,2 centímetre, enregistreu 18 cm) o en mil·límetres, useu el símbol mètric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m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2D339-AF4E-41DB-AD06-037A954E275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 aquesta diapositiva  hi ha exemples que mostren l'extensió al camp 300 subcamp $a i als camps 336-337-33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1r exemple és el mateix que hem vist abans; l'extensió està donada en termes de pàgi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 el 2n exemple, el terme "disc àudio"  obtingut de la llista que de suports físics (RDA 3.3.1.3), s'utilitza també per a descriure l'extensió de la unitat; per tant, 300 $a i 338 $a porten el mateix terme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BD82F-50BF-4151-88DB-D546F8ADD99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Descripció de suports fís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ra veurem les instruccions relacionades amb l’enregistrament dels atributs del suport físic de les manifestacions. El propòsit d'aquests elements, és ajudar l'usuari a seleccionar el recurs que vol obteni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26FFE-F9C4-4F01-9CA5-D29848AD5405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Pràctica conjun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8B53A-68A6-4B1A-9E16-EF197DE81F4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Pràctica conjun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15342-712D-4E31-B574-3ED3CBC62E0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quest cas és un lloc web que conté diversos tipus de continguts: el text es considera el predominant, tanmateix la presència de mapes i fotografies  és considerable i és recomanable informar els camps 336 corresponents a aquest tipus de conting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55190-2838-4514-9A78-E7EB089A7E34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quest exemple mostra l'ús del subcamp $3 en els camps 336-337-338 per identificar les característiques de cada part del recurs.</a:t>
            </a:r>
            <a:r>
              <a:rPr b="1" i="1" lang="ca-ES" sz="1200" spc="-1" strike="noStrike">
                <a:solidFill>
                  <a:srgbClr val="000000"/>
                </a:solidFill>
                <a:latin typeface="Calibri"/>
                <a:ea typeface="Courier New"/>
              </a:rPr>
              <a:t>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  <a:ea typeface="Courier New"/>
              </a:rPr>
              <a:t>T</a:t>
            </a: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  <a:ea typeface="Courier New"/>
              </a:rPr>
              <a:t>anmateix  l'ús de $3 és opcion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7AA5D-0746-48F5-8478-04B0260E2BF6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quest exemple és un recull o  col·lecció de fotografies procedent d'un donant. Cal tractar-lo com un tot i proporcionar els camps 33X d'acord amb el seu contingu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A2826-17D8-4838-BD6D-B7AFCEB84320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 nivell de CSUC s'ha decidit utilitzar els nous camps MARC per a donar la característica del so (MARC 344),  la característica vídeo (MARC 346) i la  característica del fitxer digital (MARC 347 i 35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A454C-7B96-49C4-9FD3-D869F6ED5A3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Característica del so – MARC 34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Una característica del so és una especificació tècnica relativa a la codificació del so d’un rec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quí es llisten les instruccions addicionals que s'han de considerar en el moment de catalogar recursos sonors. No anem a tractar aquests elements en detall, doncs la majoria ja eren enregistrats en els registres MARC, però en el camp 300 o en no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4474B-1374-4CBE-A7F9-CCB8918FA8F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Característica vídeo – MARC 34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Una característica vídeo és una especificació tècnica relativa a la codificació de les imatges de vídeo d’un rec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quí es llisten les instruccions addicionals que s'han de considerar en el moment de catalogar imatges en moviment. No anem a tractar aquests elements en detall, doncs la majoria ja eren enregistrats en els registres MARC, però en el camp 300 $b o en no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E795A-C536-4996-B65A-52E3CA99844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Altres característiqu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 continuació es llisten instruccions addicionals que s'han de considerar en el moment de catalogar recursos fitxers digitals. No anem a tractar aquests elements en deta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71980-5296-48EE-B7BD-D776621D09A5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s d'enregistraments son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E71D6-1E37-4972-8BD3-D6123C4096B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Substitució de la designació general de materi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a designació general de material (DGM) del subcamp $h no existeix a RDA. La DGM era un conjunt de termes inconsistents, que de vegades es referia al contingut i altres vegades al supor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Joint Steering Committee, conjuntament amb la comunitat d'editors (ONIX), van desenvolupar tres elements per a “substituir" la DG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s nous camps MARC só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Tipus de contingut - RDA 6.9 (camp MARC 336)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(que en realitat és un atribut de l'expressió!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Tipus de suport - RDA 3.2 (camp MARC 33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Tipus de suport físic - RDA 3.3 (camp MARC 33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7582D-F873-4872-8F54-FE2FBDF0EA1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s d'enregistraments de víde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2766F-3813-4681-B672-F29F6D2A97E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Altres característiques - Recursos cartogràf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a disposició (RDA 3.11 ) i la característica del fitxer digital (RDA 3.19.8) són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ELEMENTS BÀSICS PER A LA BC I EL CCU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0A3D9-D90D-4A79-B0F3-AAB34AD4832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077EE-9A08-4C79-87B4-543DD832D98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Restriccions d'accé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4.4 les restriccions d'accés són un ELEMENT BÀSIC PER A LA BC I EL CCUC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per a materials d'arxi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FE204-68DB-48F5-9F8A-EBC7EF834D4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Restriccions d'ú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4.5 les restriccions d'ús són un ELEMENT BÀSIC PER A LA BC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per a materials d'arxi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ón notes que indiquen a l'usuari les limitacions imposades sobre els usos del recurs, com ara la reproducció, la publicació, l’exposició,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B3C1B-8275-4598-8E9C-5F07FE86FB06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Adreça UR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4.6 l'adreça URL és un ELEMENT BÀSIC PER A LA BC I EL CCU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URL és l'adreça d’un recurs d’accés remot. Les URL inclouen tots els identificadors del recurs, destinats a permetre l'accés en línia a un recurs mitjançant l'ús d'un cercador d'internet normalitz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AD497-B8D0-4188-87BD-D5A778D27E5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URL: restriccions i accé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a pràctica utilitzada fins ara no canvia amb l'aplicació d'RD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70A05-6282-4AD7-AB68-01D40A6EF300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 u="sng">
                <a:solidFill>
                  <a:srgbClr val="000000"/>
                </a:solidFill>
                <a:uFillTx/>
                <a:latin typeface="Calibri"/>
              </a:rPr>
              <a:t>Canvis que requereixen l’addició, la revisió o l’eliminació d’una adreça UR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Concreció 4.6.1.4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mostra la pràctica de la BC per a recursos que pertanyen a la Bibliografia nacional de Catalunya i la URL ja no està activa. Es cerca a interne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es troba l'adreça, s'actualitza al regist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no es troba i es considera important de mantenir el recurs a la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BnC,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'informa un $z i $x de la seguent maner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  <a:ea typeface="Courier New"/>
              </a:rPr>
              <a:t>856 40 $zAdreça electrònica (http....) no disponible en fer la cerca el 06/03/2015$xBibliografia nacional de Cataluny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EE3E1-108A-4772-8229-4EED5FB943C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875B6-8813-402C-BAF6-6A0F030E72E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Descripció del conting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Deixem el capítol 6, que tracta sobre les obres i les expressions per més endavant, i tractarem primer el capítol 7 perquè inclou una sèrie d'</a:t>
            </a:r>
            <a:r>
              <a:rPr b="0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atributs de les obres i les expression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 associats amb el contingut d’un recurs que són enregistrats en un registre bibliogràfic en el camp 300 i en camps de not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E5489-D0F1-4F04-ACF6-6776896ECBF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Codificació MARC de cada un d'aquests cam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 cada camps conté: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$a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terme,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$b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codi i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$2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fo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subcamp $2 identifica el vocabulari d’RDA utilitzat (en un camp 336 ha de ser "rdacontent"; en un camp 337 "rdamedia" i en un camp 338 "rdacarrier"). Aquests són codis registrats i validats per MARC 21, no s'han de traduir mai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subcamp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$3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es fa servir, si es considera necessari, per identificar parts d'un rec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a correspondència entre el terme, el codi i la font de cada element RDA es troben disponibles en tres documents publicats per la B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[Veurem exemples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631B4-51E5-44A7-A93E-E85EFDC321C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lvl="2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RDA divideix els elements de contingut e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tributs de l'o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tributs de l'expressi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questa distinció no sempre és intuïtiva, però està clarament dividida a les instruccio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No analitzarem cada element de contingut d'RDA. Començarem per aquells elements que s'han d'enregistrar en un camp MARC 300 i continuarem pels elements que s'han considerat bàsics o han estat contemplats en els nivells de catalogaci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2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4D218-224C-4944-9318-BB4C8A4063C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MARC - Descripció del conting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 el camp 300 s'han d'enregistrar elements que estan relacionats amb el contingut de les obres i les expressions. És per aquest motiu que es troben en el capítol 7 RDA i no en el capítol 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a durada, el contingut il·lustratiu, el de color i el sonor són atributs de les obres i/o de l'expressió. Heu de tenir present que en el camp 300 s'hi barregen dades sobre el suport físic i dades del conting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86055-1207-4590-A2BA-AA0528340CE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Contingut il·lustratiu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5 el contingut il·lustratiu és un ELEMENT BÀSIC PER A LA BC I EL CCUC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és aplic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contingut il·lustratiu és el contingut concebut per il·lustrar el contingut principal d’un recurs. Les taules que només contenen paraules i/o dades numèriques no es consideren contingut il·lustratiu. Descarteu les portades, etc., il·lustrades i les il·lustracions men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registreu: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  <a:ea typeface="Courier New"/>
              </a:rPr>
              <a:t>il·lustració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o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  <a:ea typeface="Courier New"/>
              </a:rPr>
              <a:t>il·lustracions,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  <a:ea typeface="Courier New"/>
              </a:rPr>
              <a:t>no useu l'abreviatura "il.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74456-62EC-424F-9436-38361421AFE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Contingut del col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7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el contingut del color és un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ELEMENT BÀSIC PER A LA BC I EL CCUC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és aplicable i si es considera important per a la identificació o la selecció.. Enregistreu les particularitats del contingut de color si es consideren importants; utilitzeu frases com "(algunes en color)", "(principalment en color)", etc.; no utilitzeu l'abreviatura "col.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EE4FC-3483-47A9-B8CD-5F324B544EE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Contingut son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8 el contingut sonor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és un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ELEMENT BÀSIC PER A LA BC I EL CCUC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és aplicable i si es considera important per a la identificació o la selecci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registreu "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sonor" per indicar la presència de so en un recurs que no consisteix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principalment en so enregistrat.  En el cas d'enregistraments de vídeo, enregistreu: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 "so" o "mut"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3C279-1B5B-46DE-8647-293D6C5000DD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lvl="1" marL="98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Durad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8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22 la durada és un ELEMENT BÀSIC PER A LA BC I EL CCUC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 el cas de la música notada, enregistraments d'àudio i de vídeo i si es pot  determinar fàcilment; si no, es pot donar una durada aproximada, o ometre-la si es desconeix. No utilitzeu abreviatures com "ca.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8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Utilitzeu els símbols d'unitat de temps de l'apèndix 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22DB2-1105-4F41-BEC4-ABDBACF7039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Informació sobre la tesi o la memòri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9 la informació sobre la tesi o la memòria és un ELEMENT BÀSIC PER A LA BC I EL CCU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s  subelements s'enregistren en diferents subcamps del camp 502 (sense puntuar). A diferència d'AACR2/ISBD, amb RDA </a:t>
            </a:r>
            <a:r>
              <a:rPr b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r>
              <a:rPr b="0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 es fa constar si es tracta d'una tesi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. Si no es disposa de tots els subelements, o no conté la tesi original, la informació disponible es dóna en un camp 500 $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DD017-5795-484D-AD61-1891D44BC7C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Resum del contingu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0 el resum del contingut és un ELEMENT BÀSIC PER A LA BC I EL CCUC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per a materials d'arxi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s dóna una nota de resum com a addició o com a substitut d’una nota de conté 505. Les notes de resum són narratives, de text lliure i normalment són emprades per donar informació sobre l’abast i el contingut del fons o de la col·lecció. El tipus d’informació pot ser: tipus i formes dels materials, ordenació, dates i matèries, persones, llocs o esdeveniments més significatiu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DE030-76C9-4055-8E08-717D04340F5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Lloc  i data de captur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1 el lloc i la data de captura són un ELEMENT BÀSIC PER A LA BC I EL CCU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9548F-4FBE-487D-B907-03901748521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Llengua del contingu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2 la llengua del contingut és un ELEMENT BÀSIC PER A LA BC I EL CCU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 la  posició 008/35-37 es dóna el codi de llengua del recurs. El camp 041 només s'utilitza quan s'han d'enregistrar múltiples llengües incloses en el recurs (primer indicador 0) o perquè es tracta  una traducció (primer indicador 1). Utilitzeu en ambdós camps la llista de codis MARC per a les llengües. La nota 546 s'utilitza per a descriure les llengües del contingut i pot ser utilitzada per a una sola llengua si es considera úti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23EE1-7C9B-4B75-A8DC-1E91A6CEB854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Vocabularis controlats  per al tipus de contingut, suport i suport fís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s vocabularis per aquests termes es troben a RDA en llistes "tancades": RDA 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6.9.1.3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(Tipus de contingut), RDA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3.2.1.3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(Tipus de suport), RDA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3.3.1.3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(Tipus de suport físic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hi ha més d'un terme apropiat, hi ha dues opcio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1- E</a:t>
            </a:r>
            <a:r>
              <a:rPr b="0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nregistrar tots els termes apropiats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. Si trieu aquesta opció, repetiu el camp complet, en comptes de repetir el subcamp $a en el mateix camp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2- </a:t>
            </a:r>
            <a:r>
              <a:rPr b="0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Triar el terme que representi el contingut, el suport o el suport físic predominant o substanc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es desconeix la informació, s’enregistra "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sense especificar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cap terme d'aquestes llistes és apropiat, s’enregistra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"altre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000EB-17A2-4F57-8234-A655115EF61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Forma de la notació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3 la forma de la notació és un ELEMENT BÀSIC PER A LA BC I EL CCU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Pel que fa a l'escriptura, utilitzeu els subcamps $a i $b del camp 546. Anoteu el nom de la llengua en el $a i el nom de l’escriptura en un $b en les següents situacion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Quan el contingut es troba en una escriptura que no és l’habitual de la llengu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Quan el contingut és en una llengua que pot ser escrita en més d’una escriptur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xemp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564 ## $aSerbi;$bAlfabet ciríl·l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564 ## $aSerbi;$bAlfabet llat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Fixeu-vos també en l'exemple, el nou ús del camp 546 per a la notació musical; amb AACR2 no es donava aquest tipus de notació i altres tipus de notació s'enregistraven en un camp 50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36FA2-E553-4A4F-911F-4B4A943BA37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Contingut suplementari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6 el contingut suplementari és un ELEMENT BÀSIC PER A LA BC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(no per al CCU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a pràctica no canvia, tanmateix recordeu que no es poden utilitzar abreviatu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4CF8C-FC58-4C4D-B4E5-FA9B4F6F722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Música notad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20-7.21 el format de la música notada i el repartiment de l’execució d’un contingut musical són ELEMENTS BÀSICS PER A LA BC I EL CCU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36676-FAE1-4928-9749-AB3DC91C816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Recursos cartogràf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Són ELEMENTS BÀSICS PER A LA BC I EL CCUC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279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scala horitzontal (RDA 7.25.3 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279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scala vertical (RDA 7.25.4 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279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Informació d'escala addicional (RDA 7.25.5 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279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Projecció del contingut cartogràfic (RDA 7.26 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BF9C6-EF98-4862-9B78-9CEFDCF8EDF0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Prem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28 els premis són un ELEMENT BÀSIC PER A LA BC I EL CCU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9E6E2-A5FE-4845-99D9-B45F683BB77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Fi del mòdul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1A303-1F33-4C43-8A4B-F3834501C25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Tipus de contingu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 6.9 el tipus de contingut és un ELEMENT BÀSI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contingut és una categorització que reflecteix la forma fonamental de comunicació, en què s’expressa el contingut i el sentit humà per mitjà del qual s’ha de percebre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registreu el tipus de contingut del recurs, usant un o més dels termes de la llista que figura a RDA 6.9 (taula 6.1)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el recurs té més d'un tipus de contingut, la </a:t>
            </a: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Concreció 6.9.1.3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especifica l'aplicació de l'alternativa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. En lloc d'enregistrar-los tots, es pot enregistra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contingut que correspon a la part predominant del recurs (si n'hi ha alguna que sigui predominant), 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contingut que correspongui a les parts substancials del recurs (incloent la part predominant, quan hi hagi una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8FC10-67E7-49DC-B6DB-3CA3439AEA40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Tipus de supor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3.3 tipus de suport físic és un ELEMENT BÀSIC PER A LA BC I EL CCUC.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És una categorització que reflecteix el format del suport d’emmagatzematge i d’allotjament d’un suport físic en combinació amb el tipus d’aparell de mediació requerit per visionar, reproduir, fer funcionar, etc. el contingut d’un recurs (és a dir,  quin tipus d'aparell, si és el cas, es necessita per poder veure, escoltar, etc., el contingut d'un recurs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Fonts: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Useu l’evidència presentada pel recurs mateix (o en qualsevol material d’acompanyament o contenidor) com a base per enregistrar el tipus de suport físic. Obtingueu l’evidència addicional de qualsevol altra fo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Concreció 3.2 Alternativa: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 S'aplica.</a:t>
            </a: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registreu el tipus de suport utilitzant un o més dels termes de la llista 3.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hi ha més d'un terme apropiat, enregistreu el tipus de suport que correspongui a la part predominant o parts substancials del rec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2FC4F-BF5B-4B76-8585-4BCF0AE4760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Tipus de suport físic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3.3 el tipus de suport físic és un ELEMENT BÀS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suport físic és una categorització que reflecteix el format del suport d’emmagatzematge i d’allotjament d’un suport físic en combinació amb el tipus d’aparell de mediació requerit per visionar, reproduir, fer funcionar, etc. el contingut d’un recurs.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Font: Useu l’evidència presentada pel recurs mateix (o en qualsevol material d’acompanyament o contenidor) com a base per enregistrar el tipus de suport físic. Obtingueu l’evidència addicional de qualsevol altra fo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Concreció 3.3 Alternativa: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S'aplica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. Si hi ha més d'un terme apropiat enregistreu el tipus de suport físic que correspongui a la part predominant o parts substancials del rec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suport físic dóna informació més específica que el tipus de suport, indica el format, emmagatzematge i tipus d'aparell requerit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3FBE5-F451-4934-A449-FED2F95B013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1r exemple: es tracta d'un llibre, per tan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El tipus de contingut en el camp 336 és "text"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El tipus de suport en el camp 337 és "sense mediació" perquè el llibre no necessita de cap aparell per poder llegir el seu conting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supor físic és "volum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2n exemple: es tracta d'un llibre principalment il·lustrat, per tan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contingut principal en el camp 336 és "text", però té una part substancial d'un altre tipus de contingut: "imatge fitxa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El tipus de suport en el camp 337 és "sense mediació" perquè el contingut d'un llibre pugui ser llegit no necessita cap apare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supor físic és "volum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3r exemple: es tracta d'un CD de música, per tan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contingut en el camp 336 és "</a:t>
            </a:r>
            <a:r>
              <a:rPr b="0" lang="pt-BR" sz="1200" spc="-1" strike="noStrike">
                <a:solidFill>
                  <a:srgbClr val="376092"/>
                </a:solidFill>
                <a:latin typeface="Courier New"/>
                <a:ea typeface="Courier New"/>
              </a:rPr>
              <a:t>música executada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El tipus de suport en el camp 337 és "àudio", és a dir necessita d'un aparell d'àudio (en genèric) per reproduir el conting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supor físic és un "disc àudio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(Recordeu que els termes del subcamp $a corresponen a un vocabulari controla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D3163-ED88-4D9C-A1B4-9C3D5C8E636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8295-82BD-48FB-BA4A-178910788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69A0-07BD-4E79-AC87-81BFE42F9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FC9E-7617-4DA3-82F9-8D3EC14EF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CD9D-5117-4A9F-82B8-A04150B85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3A39-516B-427C-87C3-B44C15B98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9B35-594F-4660-B08B-62E154485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5A61-03B2-46FA-862A-7D9CABD09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C491-37C4-44B3-A913-148CECE6E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6670-FD99-414F-AE0C-FAE612C42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297C-E2EA-4EF0-9ADC-ABA7A90E5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59D5-26D0-4669-9C3C-EDA017851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A31B-936C-42EF-84B0-BD36E3C9D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0ED19-4FC5-4D80-9491-FA2574AA0FBE}" type="datetime">
              <a:rPr b="0" lang="ca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6C8CF-950F-4183-A70D-C0A2BBA8574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nc.cat/sprof/normalitzacio/RDAcontingut.html" TargetMode="External"/><Relationship Id="rId2" Type="http://schemas.openxmlformats.org/officeDocument/2006/relationships/hyperlink" Target="http://www.bnc.cat/sprof/normalitzacio/RDAsuport.html" TargetMode="External"/><Relationship Id="rId3" Type="http://schemas.openxmlformats.org/officeDocument/2006/relationships/hyperlink" Target="http://www.bnc.cat/sprof/normalitzacio/RDAsuport_fisic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611280" y="333360"/>
            <a:ext cx="8153280" cy="18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|RDA|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cursos, descripció i acc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76364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898989"/>
                </a:solidFill>
                <a:latin typeface="Calibri"/>
              </a:rPr>
              <a:t>Biblioteca de Cataluny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898989"/>
                </a:solidFill>
                <a:latin typeface="Calibri"/>
              </a:rPr>
              <a:t>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332000" y="2637000"/>
            <a:ext cx="6858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898989"/>
                </a:solidFill>
                <a:latin typeface="Calibri"/>
              </a:rPr>
              <a:t>Mòdul 2:</a:t>
            </a:r>
            <a:r>
              <a:rPr b="1" lang="ca-ES" sz="24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1" lang="ca-ES" sz="2400" spc="-1" strike="noStrike">
                <a:solidFill>
                  <a:srgbClr val="376092"/>
                </a:solidFill>
                <a:latin typeface="Calibri"/>
              </a:rPr>
              <a:t>Descripció dels suports fí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alibri"/>
              </a:rPr>
              <a:t>Informació relativa a l’adquisició i a l’acc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alibri"/>
              </a:rPr>
              <a:t>Descripció del contingu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C0163-9D68-4C2F-8855-E38C6256EDE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000000"/>
                </a:solidFill>
                <a:latin typeface="Calibri"/>
              </a:rPr>
              <a:t>Plantilles Millennium:</a:t>
            </a:r>
            <a:r>
              <a:rPr b="0" lang="ca-ES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r>
              <a:rPr b="1" lang="ca-ES" sz="4000" spc="-1" strike="noStrike">
                <a:solidFill>
                  <a:srgbClr val="000000"/>
                </a:solidFill>
                <a:latin typeface="Calibri"/>
              </a:rPr>
              <a:t>Camps MARC 336-337-33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85305-E8F9-42E9-AE36-82CCF991B54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"/>
          <p:cNvPicPr/>
          <p:nvPr/>
        </p:nvPicPr>
        <p:blipFill>
          <a:blip r:embed="rId1"/>
          <a:srcRect l="0" t="47507" r="64662" b="42232"/>
          <a:stretch/>
        </p:blipFill>
        <p:spPr>
          <a:xfrm>
            <a:off x="900000" y="2565360"/>
            <a:ext cx="7128000" cy="230364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sp>
        <p:nvSpPr>
          <p:cNvPr id="84" name="6 Rectángulo"/>
          <p:cNvSpPr/>
          <p:nvPr/>
        </p:nvSpPr>
        <p:spPr>
          <a:xfrm>
            <a:off x="1047600" y="2060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Lli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7 Rectángulo"/>
          <p:cNvSpPr/>
          <p:nvPr/>
        </p:nvSpPr>
        <p:spPr>
          <a:xfrm>
            <a:off x="971640" y="508464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(En procés de creació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tensió (RDA 3.4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Abast= "és el nombre i el tipus d’unitats i/o de subunitats que constitueixen un recurs."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Unitat = és un component físic o lògic d’un recurs (ex. un volum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ubunitat = és una subdivisió física o lògica d’una unitat (per exemple, una pàgina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MARC 300 $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05792-6C4F-4BF6-A8F3-CD1386A7623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nregistrament de l'extensió (RDA 3.4.1.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6840" y="1412640"/>
            <a:ext cx="84358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L’extensió és un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ELEMENT BÀSIC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només si el recurs és complet o si se’n sap l’extensi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registreu el nombre d'unitats i el terme apropia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Un terme de la llista del tipus de suport físic (RDA 3.3.1.3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i el terme no està a la llista 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i les unitats no es poden anomenar concisament (RDA 3.4.1.5) useu "peces diverses" 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un terme d'ús com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517F9-D331-4742-9C42-179963E20EC5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tensió recursos específics (RDA3.4.2-3.4.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95280" y="907920"/>
            <a:ext cx="84247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3.4.1.3 (general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recurs en línia (2 fitxers vídeo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videodis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60 carpetes (1.564 document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3.4.2 Extensió d’un recurs cartogràf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6 mapes en 1 ful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3.4.3 Extensió de la música nota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partitura (23 pàgin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3.4.4 Extensió de les imatges fix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aproximadament 1.000 fotograf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3.4.5 Extensió del te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246 pàgines, 32 pàgines de làmin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3.4.6 Extensió d’una forma tridimensi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trencaclosques (1.000 pec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71342-B2C4-4E6B-AD9A-D4320CA0E59D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395280" y="0"/>
            <a:ext cx="3816360" cy="6667560"/>
          </a:xfrm>
          <a:prstGeom prst="rect">
            <a:avLst/>
          </a:prstGeom>
          <a:ln w="0">
            <a:noFill/>
          </a:ln>
        </p:spPr>
      </p:pic>
      <p:sp>
        <p:nvSpPr>
          <p:cNvPr id="96" name="5 Rectángulo redondeado"/>
          <p:cNvSpPr/>
          <p:nvPr/>
        </p:nvSpPr>
        <p:spPr>
          <a:xfrm>
            <a:off x="1258920" y="1700280"/>
            <a:ext cx="2881440" cy="649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6 Rectángulo redondeado"/>
          <p:cNvSpPr/>
          <p:nvPr/>
        </p:nvSpPr>
        <p:spPr>
          <a:xfrm>
            <a:off x="1258920" y="3357720"/>
            <a:ext cx="2881440" cy="431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9 Conector recto de flecha"/>
          <p:cNvCxnSpPr/>
          <p:nvPr/>
        </p:nvCxnSpPr>
        <p:spPr>
          <a:xfrm flipH="1">
            <a:off x="3563280" y="1125000"/>
            <a:ext cx="216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10 Conector recto de flecha"/>
          <p:cNvCxnSpPr/>
          <p:nvPr/>
        </p:nvCxnSpPr>
        <p:spPr>
          <a:xfrm flipH="1">
            <a:off x="3563280" y="907560"/>
            <a:ext cx="216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11 Conector recto de flecha"/>
          <p:cNvCxnSpPr/>
          <p:nvPr/>
        </p:nvCxnSpPr>
        <p:spPr>
          <a:xfrm flipH="1">
            <a:off x="3563280" y="1267920"/>
            <a:ext cx="216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12 Conector recto de flecha"/>
          <p:cNvCxnSpPr/>
          <p:nvPr/>
        </p:nvCxnSpPr>
        <p:spPr>
          <a:xfrm flipH="1">
            <a:off x="3851280" y="6453000"/>
            <a:ext cx="216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2" name="13 Conector recto de flecha"/>
          <p:cNvCxnSpPr/>
          <p:nvPr/>
        </p:nvCxnSpPr>
        <p:spPr>
          <a:xfrm flipH="1">
            <a:off x="3635280" y="1483920"/>
            <a:ext cx="216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3" name="14 Cerrar llave"/>
          <p:cNvSpPr/>
          <p:nvPr/>
        </p:nvSpPr>
        <p:spPr>
          <a:xfrm>
            <a:off x="4716360" y="1700280"/>
            <a:ext cx="432000" cy="4537080"/>
          </a:xfrm>
          <a:custGeom>
            <a:avLst/>
            <a:gdLst>
              <a:gd name="textAreaLeft" fmla="*/ 0 w 432000"/>
              <a:gd name="textAreaRight" fmla="*/ 155880 w 432000"/>
              <a:gd name="textAreaTop" fmla="*/ 0 h 4537080"/>
              <a:gd name="textAreaBottom" fmla="*/ 4537440 h 453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15 CuadroTexto"/>
          <p:cNvSpPr/>
          <p:nvPr/>
        </p:nvSpPr>
        <p:spPr>
          <a:xfrm>
            <a:off x="5292720" y="3789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1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426E8-3DA9-4B8C-B56C-7663A616863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tensió del text (RDA 3.4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Un volum sol amb les pàgines, els fulls o les columnes numerats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(RDA 3.4.5.2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Un volum sol amb les pàgines, els fulls o les columnes no numerats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(RDA 3.4.5.3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RDA dóna tres opcions,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per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Concreció 3.4.5.3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En general s’aplica el mètode c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volum (no pagina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Paginació, etc., complexa o irregular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(RDA 3.4.5.8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RDA dóna tres opcions,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però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Concreció 3.4.5.8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En general s’aplica el mètode c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volum (paginació múltipl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D1079-C274-4A07-BD5E-F2CAF39295D5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Exem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246 pàgines, 32 pàgines de làmin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246 pàgines, 32 pàgines de làmines no numerad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504 pàgines, aproximadament 500 pàgines de làmin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ca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(Comentari: estimació de làmines no numerade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33 fulls, 31 fulls no numera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3 volums (XX, 800 pàgin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329, és a dir, 392 pàgin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ca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(Comentari: hi ha un error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22 fulls plega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D593C-8652-4395-AC3E-9DD75720148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anvi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lacionats amb l'extensi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No fer servir abreviatures  (Ex., "pàgines", "volums", </a:t>
            </a:r>
            <a:r>
              <a:rPr b="0" i="1" lang="ca-ES" sz="3000" spc="-1" strike="noStrike">
                <a:solidFill>
                  <a:srgbClr val="000000"/>
                </a:solidFill>
                <a:latin typeface="Calibri"/>
              </a:rPr>
              <a:t>no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 "p.", "vol.", "v."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Utilitzar "aproximadament" (en lloc de "ca.") i "és a dir" (en lloc de"i.e."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Utilitzar "pàgines no numerades"/ "fulls no numerats" en lloc de donar els números entre claudàto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Cal anar amb compte amb els canvis dels termes per a certs tipus de materials (ex., "partitura guió" s'usa tant, per a la "partitura guió" com per a la "partitura reduïda"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A91EA-B30A-4A62-B315-A827C8F788CD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Dimensions (RDA 3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Excepte en el cas de publicacions en sèrie i recursos en línia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bast = "mesures del suport físic o dels suports físics i/o del contenidor d’un recurs"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Les dimensions inclouen les mesures d’alçada, amplada, profunditat, llargada, format i diàmetre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Enregistreu les dimensions en centímetres arrodonits al centímetre superior i useu el </a:t>
            </a:r>
            <a:r>
              <a:rPr b="0" lang="ca-ES" sz="2700" spc="-1" strike="noStrike" u="sng">
                <a:solidFill>
                  <a:srgbClr val="000000"/>
                </a:solidFill>
                <a:uFillTx/>
                <a:latin typeface="Calibri"/>
              </a:rPr>
              <a:t>símbo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l mètric "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cm" (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no és una abreviatura), o 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"mm"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segons el tipus de recurs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 300 $c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675C7-168F-4AC6-97DB-4C4BE94C320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 300 $a, 336-337-3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Llibr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23 pàgines, 28 pàgines no numerad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336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text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txt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337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338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MS PGothic"/>
              </a:rPr>
              <a:t>$</a:t>
            </a:r>
            <a:r>
              <a:rPr b="1" lang="it-IT" sz="2500" spc="-1" strike="noStrike">
                <a:solidFill>
                  <a:srgbClr val="000000"/>
                </a:solidFill>
                <a:latin typeface="Courier New"/>
                <a:ea typeface="MS PGothic"/>
              </a:rPr>
              <a:t>a</a:t>
            </a:r>
            <a:r>
              <a:rPr b="1" lang="it-IT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volum</a:t>
            </a:r>
            <a:r>
              <a:rPr b="1" lang="it-IT" sz="2500" spc="-1" strike="noStrike">
                <a:solidFill>
                  <a:srgbClr val="000000"/>
                </a:solidFill>
                <a:latin typeface="Courier New"/>
                <a:ea typeface="MS PGothic"/>
              </a:rPr>
              <a:t>$b</a:t>
            </a:r>
            <a:r>
              <a:rPr b="1" lang="it-IT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nc</a:t>
            </a:r>
            <a:r>
              <a:rPr b="1" lang="it-IT" sz="2500" spc="-1" strike="noStrike">
                <a:solidFill>
                  <a:srgbClr val="000000"/>
                </a:solidFill>
                <a:latin typeface="Courier New"/>
                <a:ea typeface="MS PGothic"/>
              </a:rPr>
              <a:t>$2</a:t>
            </a:r>
            <a:r>
              <a:rPr b="1" lang="it-IT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rdacarri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CD de música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disc àudio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336 ## </a:t>
            </a:r>
            <a:r>
              <a:rPr b="1" lang="pt-BR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pt-BR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música executada</a:t>
            </a:r>
            <a:r>
              <a:rPr b="1" lang="pt-BR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pt-BR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prm</a:t>
            </a:r>
            <a:r>
              <a:rPr b="1" lang="pt-BR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pt-BR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337 ## </a:t>
            </a:r>
            <a:r>
              <a:rPr b="1" lang="pt-BR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pt-BR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àudio</a:t>
            </a:r>
            <a:r>
              <a:rPr b="1" lang="pt-BR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pt-BR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s</a:t>
            </a:r>
            <a:r>
              <a:rPr b="1" lang="pt-BR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pt-BR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338 ## </a:t>
            </a:r>
            <a:r>
              <a:rPr b="1" lang="pt-BR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it-IT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it-IT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disc àudio</a:t>
            </a:r>
            <a:r>
              <a:rPr b="1" lang="it-IT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it-IT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sd</a:t>
            </a:r>
            <a:r>
              <a:rPr b="1" lang="it-IT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it-IT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AFCB2-5D44-4EBD-9329-1F93D48B07A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apítol 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Descripció dels suports fís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7226A-D227-4BC3-94AB-A3C31329B6F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 300 $a, 336-337-3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DVD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videodisc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6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imatge en moviment bidimensional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tdi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7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vídeo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v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8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videodisc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vd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PDF en línia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recurs en línia (39 pàgines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6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text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txt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7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informàtic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c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8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ecurs en línia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cr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B00B4-7050-4708-B25D-2551BF8D2C9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 300 $a, 336-337-3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Partitura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partitura (23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pàgines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6 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música notada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ntm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7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8 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volum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nc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Mapa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6 mapes en 1 ful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6 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imatge cartogràfica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cri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7 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8 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full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nb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33BB9-AF4C-433F-8A7A-FE05F2246DBD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 300 $a, 336-337-3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Lloc Web amb text, mapes i fotografies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recurs en lín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6 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text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txt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6</a:t>
            </a:r>
            <a:r>
              <a:rPr b="0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 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imatge cartogràfica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cr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6 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imatge fixa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sti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7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informàtic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c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8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ecurs en línia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cr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8B00F-9355-44C3-91CB-BB1D73A2FBD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 300 $a, 336-337-3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94920" y="1699920"/>
            <a:ext cx="843588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libre acompanyat d'un CD no musical (xerrada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244 pàgines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r>
              <a:rPr b="0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 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+$e1 C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36 ##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3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llibre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text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txt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36 ##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3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CD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paraula parlada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spw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37 ##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3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llibre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37 ##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3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CD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àudio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pt-BR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s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pt-BR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38 ##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3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llibre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volum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bnc$2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38 ##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3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CD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disc àudio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0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 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(comentari: L'ús de $3 és opcional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F1584-50AB-47E7-B692-50FAAF3746F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 300 $a, 336-337-3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8360" y="184428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l·lecció de fotografies (recull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apçalera/06 = </a:t>
            </a:r>
            <a:r>
              <a:rPr b="1" i="1" lang="es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k</a:t>
            </a:r>
            <a:r>
              <a:rPr b="1" i="1" lang="es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capçalera/07 = </a:t>
            </a:r>
            <a:r>
              <a:rPr b="1" i="1" lang="es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68 fotograf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336 ## 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imatge fixa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sti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337 ## 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338 ## 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full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nb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F20DD-F970-4C0B-9F2D-7C911E3FD32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ltres característiques del suport fís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23640" y="1341360"/>
            <a:ext cx="3600360" cy="4608720"/>
          </a:xfrm>
          <a:prstGeom prst="rect">
            <a:avLst/>
          </a:prstGeom>
          <a:noFill/>
          <a:ln w="9360">
            <a:solidFill>
              <a:srgbClr val="c6d9f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6: Material de base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7: Material aplicat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8: Muntura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9: Mètode de producció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10: Generació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50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11: Disposició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12: Format de llibre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13: Mida de la font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14: Polaritat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15: Escala de reducció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067280" y="1341000"/>
            <a:ext cx="4619520" cy="4535640"/>
          </a:xfrm>
          <a:prstGeom prst="rect">
            <a:avLst/>
          </a:prstGeom>
          <a:noFill/>
          <a:ln w="9360">
            <a:solidFill>
              <a:srgbClr val="c6d9f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3.16: Característica del so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44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17: Característica de projecció d’una pel·lícula cinematogràfica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3.18: Característica vídeo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46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3.19: Característica del fitxer digital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47,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52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20: Equipament o sistema requerit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538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21: Nota sobre el suport físic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50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70FEF-0A67-42BD-BF6A-C31CBFCF11F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us camps MAR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Característica del so (MARC 344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a: Tipus de d’enregistrament - 3.16.2.3 = </a:t>
            </a:r>
            <a:r>
              <a:rPr b="0" lang="ca-ES" sz="2200" spc="-1" strike="noStrike">
                <a:solidFill>
                  <a:srgbClr val="376092"/>
                </a:solidFill>
                <a:latin typeface="Calibri"/>
              </a:rPr>
              <a:t>analògic, digita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b: Suport d’enregistrament - 3.16.3.3 = </a:t>
            </a:r>
            <a:r>
              <a:rPr b="0" lang="ca-ES" sz="2200" spc="-1" strike="noStrike">
                <a:solidFill>
                  <a:srgbClr val="376092"/>
                </a:solidFill>
                <a:latin typeface="Calibri"/>
              </a:rPr>
              <a:t>magnètic, magnetoòptic, òptic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c: Velocitat de reproducció - 3.16.4.3 = </a:t>
            </a:r>
            <a:r>
              <a:rPr b="0" i="1" lang="ca-ES" sz="2200" spc="-1" strike="noStrike">
                <a:solidFill>
                  <a:srgbClr val="376092"/>
                </a:solidFill>
                <a:latin typeface="Calibri"/>
              </a:rPr>
              <a:t>rpm,  m/s, cm/s, fp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d: Característiques del solc - 3.16.5.3 = </a:t>
            </a:r>
            <a:r>
              <a:rPr b="0" lang="ca-ES" sz="2200" spc="-1" strike="noStrike">
                <a:solidFill>
                  <a:srgbClr val="376092"/>
                </a:solidFill>
                <a:latin typeface="Calibri"/>
              </a:rPr>
              <a:t>microsolc, solc gruixut, fi, estàndar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e: Configuració de la pista - 3.16.6.3 = </a:t>
            </a:r>
            <a:r>
              <a:rPr b="0" lang="ca-ES" sz="2200" spc="-1" strike="noStrike">
                <a:solidFill>
                  <a:srgbClr val="376092"/>
                </a:solidFill>
                <a:latin typeface="Calibri"/>
              </a:rPr>
              <a:t>pista central, pista latera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f: Configuració de la cinta - 3.16.7.3 = </a:t>
            </a:r>
            <a:r>
              <a:rPr b="0" i="1" lang="ca-ES" sz="2200" spc="-1" strike="noStrike">
                <a:solidFill>
                  <a:srgbClr val="376092"/>
                </a:solidFill>
                <a:latin typeface="Calibri"/>
              </a:rPr>
              <a:t>(nombre de pistes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g: Configuració dels canals de reproducció - 3.16.8.3 =  </a:t>
            </a:r>
            <a:r>
              <a:rPr b="0" lang="ca-ES" sz="2200" spc="-1" strike="noStrike">
                <a:solidFill>
                  <a:srgbClr val="376092"/>
                </a:solidFill>
                <a:latin typeface="Calibri"/>
              </a:rPr>
              <a:t>mono, estèreo, quadrifònic, so envoltan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h: Característica especial de reproducció - 3.16.9.3 = </a:t>
            </a:r>
            <a:r>
              <a:rPr b="0" lang="ca-ES" sz="2200" spc="-1" strike="noStrike">
                <a:solidFill>
                  <a:srgbClr val="376092"/>
                </a:solidFill>
                <a:latin typeface="Calibri"/>
              </a:rPr>
              <a:t>codificació CX, Dolby, LPCM, etc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B8B70-1779-4E92-8EA8-F7994E5B258D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us camps MARC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aracterística vídeo (MARC 34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a: Format vídeo (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només analògic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) - 3.18.2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37609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76092"/>
                </a:solidFill>
                <a:latin typeface="Calibri"/>
              </a:rPr>
              <a:t>Beta, U-matic, VHS, etc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b: Estàndard d’emissió (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per televisió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) - 3.18.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37609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76092"/>
                </a:solidFill>
                <a:latin typeface="Calibri"/>
              </a:rPr>
              <a:t>HDTV, NTSC, PAL, SEC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429A8-FEE6-49FD-8190-A1D0E84348B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ltres característiq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Fitxer digital (MARC 347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a: Tipus de fitxer - 3.19.2 = </a:t>
            </a: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fitxer àudio, fitxer de vídeo, fitxer d’imatges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b: Format de codificació - 3.19.3 = </a:t>
            </a: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CD àudio, DVD vídeo, JPEG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c: Mida del fitxer - 3.19.4 = </a:t>
            </a: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KB, </a:t>
            </a: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MB, GB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d: Resolució - 3.19.5 =</a:t>
            </a: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 píxe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e: Codi de regió - 3.19.6 = </a:t>
            </a: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regió 4, totes les regions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f: Velocitat de transmissió - 3.19.7 </a:t>
            </a: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= kb/s, Mb/s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F5174-8943-407E-AA53-641C314B8595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Exem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4000" y="907920"/>
            <a:ext cx="8434080" cy="144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C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4 discs àudio (aproximadament 16 h) ;$c12 c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4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igital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òptic$2r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7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fitxer àudi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CD àudi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40406-C1BE-46FB-AE61-4559C36AF29C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2 Marcador de contenido"/>
          <p:cNvSpPr/>
          <p:nvPr/>
        </p:nvSpPr>
        <p:spPr>
          <a:xfrm>
            <a:off x="324000" y="2565360"/>
            <a:ext cx="8434080" cy="144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DVD àu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disc àudio ;$c12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4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igital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estère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o envoltant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7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fitxer àudi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VD àudi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2 Marcador de contenido"/>
          <p:cNvSpPr/>
          <p:nvPr/>
        </p:nvSpPr>
        <p:spPr>
          <a:xfrm>
            <a:off x="324000" y="4221000"/>
            <a:ext cx="8434080" cy="107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asset àu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casset àudio ;$c12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4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nalògic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estère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h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codificació Dolby-B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2 Marcador de contenido"/>
          <p:cNvSpPr/>
          <p:nvPr/>
        </p:nvSpPr>
        <p:spPr>
          <a:xfrm>
            <a:off x="324000" y="5489640"/>
            <a:ext cx="8434080" cy="110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i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disc àudio ;$c30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4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nalògic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c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3 1/3 rpm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estère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Substitució de la designació general de material (DGM)-245 $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Tres nous camps MARC , desenvolupats amb la comunitat d’editors ONIX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 </a:t>
            </a:r>
            <a:r>
              <a:rPr b="1" lang="ca-ES" sz="2800" spc="-1" strike="noStrike">
                <a:solidFill>
                  <a:srgbClr val="376092"/>
                </a:solidFill>
                <a:latin typeface="Calibri"/>
              </a:rPr>
              <a:t>336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Tipus de contingut (RDA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6.9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 </a:t>
            </a:r>
            <a:r>
              <a:rPr b="1" lang="ca-ES" sz="2800" spc="-1" strike="noStrike">
                <a:solidFill>
                  <a:srgbClr val="376092"/>
                </a:solidFill>
                <a:latin typeface="Calibri"/>
              </a:rPr>
              <a:t>337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Tipus de suport (RDA 3.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 </a:t>
            </a:r>
            <a:r>
              <a:rPr b="1" lang="ca-ES" sz="2800" spc="-1" strike="noStrike">
                <a:solidFill>
                  <a:srgbClr val="376092"/>
                </a:solidFill>
                <a:latin typeface="Calibri"/>
              </a:rPr>
              <a:t>338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Tipus de suport físic (RDA 3.3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28A8F-190D-4702-99BE-5350EA27121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45E87-5243-4673-A161-5AC59E4834E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2 Marcador de contenido"/>
          <p:cNvSpPr/>
          <p:nvPr/>
        </p:nvSpPr>
        <p:spPr>
          <a:xfrm>
            <a:off x="324000" y="1341360"/>
            <a:ext cx="8434080" cy="15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V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videocasset (77 min) :$bblanc i negre, 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4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nalògic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magnètic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6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VHS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PAL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2 Marcador de contenido"/>
          <p:cNvSpPr/>
          <p:nvPr/>
        </p:nvSpPr>
        <p:spPr>
          <a:xfrm>
            <a:off x="324000" y="3284640"/>
            <a:ext cx="8434080" cy="187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DVD víd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videodisc (100 min) :$bcolor, so ;$c 12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4 </a:t>
            </a: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##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igital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òptic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o envoltant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h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olby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6 </a:t>
            </a: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##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NTSC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7 </a:t>
            </a: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##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fitxer víde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VD víde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e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egió 1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ltres característiques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cursos cartogràf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39640" y="155736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2 ELEMENTS BÀSICS PER A LA BC I EL CCU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61800" indent="-361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Disposició - RDA 3.11 (MARC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300 $b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61800" indent="-361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2 mapes en 1 full :$bcara i ca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61800" indent="-361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Característica del fitxer digital - RDA 3.19.8       (MARC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352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E4316-1915-4FA9-B752-C4D073322D45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2 Marcador de contenido"/>
          <p:cNvSpPr/>
          <p:nvPr/>
        </p:nvSpPr>
        <p:spPr>
          <a:xfrm>
            <a:off x="611280" y="4005360"/>
            <a:ext cx="8136000" cy="165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mapa: imatge digital en lí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recurs en línia (1 mapa) :$bco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7 ## 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fitxer d’imatges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JPEG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c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7.413 KB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52 ## 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Trama :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píxel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d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(5.381 x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e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6.105) ;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q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JPE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743D7-1FD7-4240-9E05-3A180574919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apítol 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Informació relativa a l’adquisició i a l’accé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striccions d'accés (RDA 4.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ELEMENT BÀSIC PER A LA BC I EL CCUC 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per a materials d'arxiu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bast = "són les limitacions imposades sobre l’accés a un recurs."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Enregistreu totes les restriccions d'accés al recurs, incloent la naturalesa i durada de la restricció, en la forma més específica que sigui possible. També es pot indicar l'absència de restriccions si es considera importan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 506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fr-FR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506 ##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$aAccés restringit:$ces requereix permís escrit del dona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8D2A1-B4B3-4AE3-8755-C88C022EB54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striccions d'ús (RDA 4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ELEMENT BÀSIC PER A LA BC 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per a materials d'arxiu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bast = "són les limitacions imposades sobre l'ús d'un recurs."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Enregistreu totes les restriccions d'ús al recurs, incloent la naturalesa i durada de la restricció, en la forma més específica que sigui possible. També es pot indicar l'absència de restriccions si es considera importan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 540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540 ## $aRestringit: reproducció permesa només a organitzacions sense ànim de luc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46920-F2DF-466E-817F-3F35F51B8705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dreça URL (RDA 4.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68360" y="1267920"/>
            <a:ext cx="822960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bast= "és l’adreça d’un recurs d’accés remot"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Font: obtingueu la informació de qualsevol fon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85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800" spc="-1" strike="noStrike">
                <a:solidFill>
                  <a:srgbClr val="000000"/>
                </a:solidFill>
                <a:latin typeface="Calibri"/>
              </a:rPr>
              <a:t>Concreció 4.6.1.3.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 Si hi ha més d'una URL per al recurs, enregistreu-les totes. S’informen, quan sigui apropiat, els subcamps: $3, $z, $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 856 42 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3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Sumari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u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http://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78C63-5AA8-4145-BA56-AEBCB9DEFCE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URL: restriccions i accés ($z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 cas que el recurs o una de les URL's tingui un accés restringit indiqueu-ho en un $z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856 40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z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ccés restringit als usuaris de la [institució/s]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u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http://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 cas que la URL no sigui accessible per IP i es necessiti usuari i/o contrasenya, etc., afegiu les indicacions apropiad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856 40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z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ccés restringit als usuaris de la [institució/s]. Cal codi d'usuari i contrasenya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u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http://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 cas que el recurs sigui d'accés lliure, indiqueu-ho en un subcamp $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856 40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z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ccés lliure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u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http:// ..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B9551-34CB-451E-9DCB-D5EFAC34A82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Canvis que requereixen l’addició, la revisió o l’eliminació d’una adreça URL (RDA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4.6.1.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000" spc="-1" strike="noStrike">
                <a:solidFill>
                  <a:srgbClr val="000000"/>
                </a:solidFill>
                <a:latin typeface="Calibri"/>
              </a:rPr>
              <a:t>Concreció 4.6.1.4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 mostra la pràctica de la BC per a recursos que pertanyen a la </a:t>
            </a:r>
            <a:r>
              <a:rPr b="0" i="1" lang="ca-ES" sz="3000" spc="-1" strike="noStrike">
                <a:solidFill>
                  <a:srgbClr val="000000"/>
                </a:solidFill>
                <a:latin typeface="Calibri"/>
              </a:rPr>
              <a:t>Bibliografia nacional de Catalunya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 i la URL ja no està activa. Es cerca a Internet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Si es troba l'adreça, s'actualitza al registr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Si no es troba i es considera important de mantenir el recurs a la </a:t>
            </a:r>
            <a:r>
              <a:rPr b="0" i="1" lang="ca-ES" sz="2600" spc="-1" strike="noStrike">
                <a:solidFill>
                  <a:srgbClr val="000000"/>
                </a:solidFill>
                <a:latin typeface="Calibri"/>
              </a:rPr>
              <a:t>BnC, 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s'informa un $z i $x de la següent manera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856 40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z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Adreça electrònica (http....) no disponible en fer la cerca el 06/03/2015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x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Bibliografia nacional de Cataluny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17CF5-BD68-4B06-A75B-5A29BE9F87C5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apítol 7</a:t>
            </a:r>
            <a:br>
              <a:rPr sz="3200"/>
            </a:b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Descripció del conting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8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C6765-F5B5-424B-8575-339949D17CB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Descripció del conting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Aquest capítol proporciona les directrius generals i les instruccions sobre l'enregistrament dels </a:t>
            </a:r>
            <a:r>
              <a:rPr b="0" lang="ca-ES" sz="3200" spc="-1" strike="noStrike" u="sng">
                <a:solidFill>
                  <a:srgbClr val="000000"/>
                </a:solidFill>
                <a:uFillTx/>
                <a:latin typeface="Calibri"/>
              </a:rPr>
              <a:t>atributs de les obres i les expression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s associats amb el contingut intel·lectual o artístic d’un recu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Els elements del capítol 7 s’usen normalment per seleccionar un recurs que satisfaci les necessitats de l’usuari en termes del seu contingut (per exemple, contingut il·lustratiu, sonor, informació sobre la tesi, llengua, etc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7E1EF-3D2A-4F9F-AC3D-98088162CEA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: 336, 337, 3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50560" y="1341360"/>
            <a:ext cx="88930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Cada camp conté els següents subcamps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336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a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 terme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b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 codi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2 rdacontent 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[= Capçalera/06]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337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a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 terme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b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 codi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2 rdamedi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338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a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 terme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b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 codi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2 rdacarrier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Llista de termes i codis per als tipus de contingut d'RD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Llista de termes i codis per als tipus de suport d'RD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Llista de termes i codis per als tipus de suports físics d'RD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ca-ES" sz="17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Els codis del $2 són enregistrats i validats per MARC 21, no s'han de traduir ma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11266-F009-423B-9317-38B4C30B551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RDA divideix els elements de conting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3456000" cy="4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3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Atributs de l'obr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24000" y="1628640"/>
            <a:ext cx="3456000" cy="295272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2: Natura del contingut</a:t>
            </a:r>
            <a:r>
              <a:rPr b="0" lang="ca-ES" sz="1600" spc="-1" strike="noStrike">
                <a:solidFill>
                  <a:srgbClr val="376092"/>
                </a:solidFill>
                <a:latin typeface="Calibri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3: Cobertura del contingut*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4: Coordenades d’un contingut cartogràfic </a:t>
            </a:r>
            <a:r>
              <a:rPr b="1" lang="ca-ES" sz="1600" spc="-1" strike="noStrike">
                <a:solidFill>
                  <a:srgbClr val="376092"/>
                </a:solidFill>
                <a:latin typeface="Calibri"/>
              </a:rPr>
              <a:t>25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5: Equinocci </a:t>
            </a:r>
            <a:r>
              <a:rPr b="1" lang="ca-ES" sz="1600" spc="-1" strike="noStrike">
                <a:solidFill>
                  <a:srgbClr val="376092"/>
                </a:solidFill>
                <a:latin typeface="Calibri"/>
              </a:rPr>
              <a:t>25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6: Època </a:t>
            </a:r>
            <a:r>
              <a:rPr b="1" lang="ca-ES" sz="1600" spc="-1" strike="noStrike">
                <a:solidFill>
                  <a:srgbClr val="376092"/>
                </a:solidFill>
                <a:latin typeface="Calibri"/>
              </a:rPr>
              <a:t>25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7: Destinataris previstos </a:t>
            </a:r>
            <a:r>
              <a:rPr b="1" lang="ca-ES" sz="1600" spc="-1" strike="noStrike">
                <a:solidFill>
                  <a:srgbClr val="376092"/>
                </a:solidFill>
                <a:latin typeface="Calibri"/>
              </a:rPr>
              <a:t>521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8: Sistema d’organització </a:t>
            </a:r>
            <a:r>
              <a:rPr b="1" lang="ca-ES" sz="1600" spc="-1" strike="noStrike">
                <a:solidFill>
                  <a:srgbClr val="376092"/>
                </a:solidFill>
                <a:latin typeface="Calibri"/>
              </a:rPr>
              <a:t>35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9: Informació sobre la tesi o la memòria </a:t>
            </a:r>
            <a:r>
              <a:rPr b="1" lang="ca-ES" sz="1600" spc="-1" strike="noStrike">
                <a:solidFill>
                  <a:srgbClr val="376092"/>
                </a:solidFill>
                <a:latin typeface="Calibri"/>
              </a:rPr>
              <a:t>50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066920" y="1052280"/>
            <a:ext cx="4041720" cy="45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Atributs de l'expressi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924360" y="1557360"/>
            <a:ext cx="4751280" cy="446400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10: Resum del contingut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 52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11: Lloc i data de la captura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033, 51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12: Llengua del contingut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4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13</a:t>
            </a:r>
            <a:r>
              <a:rPr b="0" lang="ca-ES" sz="1300" spc="-1" strike="noStrike">
                <a:solidFill>
                  <a:srgbClr val="00b050"/>
                </a:solidFill>
                <a:latin typeface="Calibri"/>
              </a:rPr>
              <a:t>:</a:t>
            </a: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 Forma de la notació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4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14: Contingut accessible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00, 54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300" spc="-1" strike="noStrike">
                <a:solidFill>
                  <a:srgbClr val="000000"/>
                </a:solidFill>
                <a:latin typeface="Calibri"/>
              </a:rPr>
              <a:t>7.15: Contingut il·lustratiu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16: Contingut suplementari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0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300" spc="-1" strike="noStrike">
                <a:solidFill>
                  <a:srgbClr val="000000"/>
                </a:solidFill>
                <a:latin typeface="Calibri"/>
              </a:rPr>
              <a:t>7.17: Contingut de color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300" spc="-1" strike="noStrike">
                <a:solidFill>
                  <a:srgbClr val="000000"/>
                </a:solidFill>
                <a:latin typeface="Calibri"/>
              </a:rPr>
              <a:t>7.18: Contingut sonor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19: Relació d’aspecte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0: Format de la música notada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348, 5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1: Repartiment de l’execució d’un contingut musical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300" spc="-1" strike="noStrike">
                <a:solidFill>
                  <a:srgbClr val="000000"/>
                </a:solidFill>
                <a:latin typeface="Calibri"/>
              </a:rPr>
              <a:t>7.22: Durada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300 $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3: Intèrpret, narrador i/o presentador </a:t>
            </a:r>
            <a:r>
              <a:rPr b="1" lang="ca-ES" sz="1300" spc="-1" strike="noStrike">
                <a:solidFill>
                  <a:srgbClr val="376092"/>
                </a:solidFill>
                <a:latin typeface="Calibri"/>
              </a:rPr>
              <a:t>51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4: Crèdit artístic i/o tècnic </a:t>
            </a:r>
            <a:r>
              <a:rPr b="1" lang="ca-ES" sz="1300" spc="-1" strike="noStrike">
                <a:solidFill>
                  <a:srgbClr val="376092"/>
                </a:solidFill>
                <a:latin typeface="Calibri"/>
              </a:rPr>
              <a:t>508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5: Escala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25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6: Projecció del contingut cartogràfic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25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7: Altres particularitats del contingut cartogràfic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8: Premis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8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9: Nota sobre l’expressió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6 CuadroTexto"/>
          <p:cNvSpPr/>
          <p:nvPr/>
        </p:nvSpPr>
        <p:spPr>
          <a:xfrm>
            <a:off x="1258920" y="4581360"/>
            <a:ext cx="252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600" spc="-1" strike="noStrike">
                <a:solidFill>
                  <a:srgbClr val="376092"/>
                </a:solidFill>
                <a:latin typeface="Calibri"/>
              </a:rPr>
              <a:t>*diversos cam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8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41F42-ECB0-4A42-94BB-19885F79EA4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 - Descripció del conting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000000"/>
                </a:solidFill>
                <a:latin typeface="Calibri"/>
              </a:rPr>
              <a:t>MARC 30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En aquest camp s'han d'enregistrar elements que estan relacionats amb el contingut de les obres i les expressions. És per aquest motiu que es troben en el capítol 7 RDA i no en el capítol 3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Contingut il·lustratiu (7.15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Contingut de color (7.17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Contingut sonor (7.18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Durada (7.22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El camp 300 s'hi barregen dades sobre el suport físic com dades del contingu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F34A3-8FDF-45B2-9242-7F9645BD530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ontingut il·lustratiu (RDA 7.1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5400" indent="-95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Àmbit = "és el contingut concebut per il·lustrar el contingut principal d’un recurs."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Font: Obtingueu la informació de qualsevol fon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Enregistreu: </a:t>
            </a:r>
            <a:r>
              <a:rPr b="1" lang="ca-ES" sz="2600" spc="-1" strike="noStrike">
                <a:solidFill>
                  <a:srgbClr val="376092"/>
                </a:solidFill>
                <a:latin typeface="Courier New"/>
                <a:ea typeface="Courier New"/>
              </a:rPr>
              <a:t>il·lustració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 o </a:t>
            </a:r>
            <a:r>
              <a:rPr b="1" lang="ca-ES" sz="2600" spc="-1" strike="noStrike">
                <a:solidFill>
                  <a:srgbClr val="376092"/>
                </a:solidFill>
                <a:latin typeface="Courier New"/>
                <a:ea typeface="Courier New"/>
              </a:rPr>
              <a:t>il·lustrac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600" spc="-1" strike="noStrike">
                <a:solidFill>
                  <a:srgbClr val="000000"/>
                </a:solidFill>
                <a:latin typeface="Calibri"/>
              </a:rPr>
              <a:t>Concreció 7.15 Alternativa: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a-ES" sz="2600" spc="-1" strike="noStrike">
                <a:solidFill>
                  <a:srgbClr val="000000"/>
                </a:solidFill>
                <a:latin typeface="Calibri"/>
              </a:rPr>
              <a:t>En general, no s’aplica. 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No és necessari especificar</a:t>
            </a:r>
            <a:r>
              <a:rPr b="0" i="1" lang="ca-E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tipus específics (per ex.: gràfics, mapes, retrats, formularis, plànols, etc.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600" spc="-1" strike="noStrike">
                <a:solidFill>
                  <a:srgbClr val="000000"/>
                </a:solidFill>
                <a:latin typeface="Calibri"/>
              </a:rPr>
              <a:t>Concreció 7.17 Addició opcional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. És opcional donar el nombre d'il·lustracion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 300 $b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D6BBE-6B6D-4E15-A612-042D16391AE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ontingut del color (RDA 7.17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Àmbit = "és la presència de color, de tonalitat, etc., en el contingut d’un recurs.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Font: Useu l’evidència presentada pel recurs mateix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Concreció 7.17 Alternativa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S'aplica.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Enregistreu el contingut de color usant un o més dels termes alternatius a monocrom, policrom: </a:t>
            </a:r>
            <a:r>
              <a:rPr b="0" lang="ca-ES" sz="2400" spc="-1" strike="noStrike">
                <a:solidFill>
                  <a:srgbClr val="376092"/>
                </a:solidFill>
                <a:latin typeface="Calibri"/>
              </a:rPr>
              <a:t>blanc i negre, color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Enregistreu les particularitats del contingut de color si es consideren importa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300 $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Ex.: 300## … :$bil·lustracions (algunes en colo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66AEA-8A81-4471-97F5-D142506E84D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ontingut sonor (RDA 7.18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483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bast = "és la presència de so en un recurs que no consisteix principalment en so enregistrat."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Font: Useu l’evidència presentada pel recurs mateix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Enregistreu "</a:t>
            </a:r>
            <a:r>
              <a:rPr b="0" i="1" lang="ca-ES" sz="2700" spc="-1" strike="noStrike">
                <a:solidFill>
                  <a:srgbClr val="376092"/>
                </a:solidFill>
                <a:latin typeface="Calibri"/>
              </a:rPr>
              <a:t>sonor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" per indicar la presència de so en un recurs que no consisteix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principalment en so enregistrat (p. ex.: c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onjunt de diapositives amb so integrat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700" spc="-1" strike="noStrike">
                <a:solidFill>
                  <a:srgbClr val="000000"/>
                </a:solidFill>
                <a:latin typeface="Calibri"/>
              </a:rPr>
              <a:t>Excepció. Per a recursos d’imatges en moviment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(p. ex.: els</a:t>
            </a:r>
            <a:r>
              <a:rPr b="1" i="1" lang="ca-E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enregistraments de vídeo), enregistreu: "</a:t>
            </a:r>
            <a:r>
              <a:rPr b="0" lang="ca-ES" sz="2700" spc="-1" strike="noStrike">
                <a:solidFill>
                  <a:srgbClr val="376092"/>
                </a:solidFill>
                <a:latin typeface="Calibri"/>
                <a:ea typeface="Courier New"/>
              </a:rPr>
              <a:t>so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  <a:ea typeface="Courier New"/>
              </a:rPr>
              <a:t>"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  <a:ea typeface="Courier New"/>
              </a:rPr>
              <a:t>"</a:t>
            </a:r>
            <a:r>
              <a:rPr b="0" lang="ca-ES" sz="2700" spc="-1" strike="noStrike">
                <a:solidFill>
                  <a:srgbClr val="376092"/>
                </a:solidFill>
                <a:latin typeface="Calibri"/>
                <a:ea typeface="Courier New"/>
              </a:rPr>
              <a:t>mut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  <a:ea typeface="Courier New"/>
              </a:rPr>
              <a:t>"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 300 $b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videodisc (100 min) :$bs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3AB22-BD73-44E8-98A9-712D33EF2B5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Durada (RDA 7.2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836280"/>
            <a:ext cx="82915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5400" indent="-954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Abast = "es el temps de reproducció, de projecció, d’execució, etc., del contingut d’un recurs."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Font: Obtingueu la informació sobre la durada de qualsevol fon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Enregistrament de la durad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Enregistreu el temps exacte si es pot determinar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Un temps aproximat si es pot estimar precedit de "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  <a:ea typeface="Courier New"/>
              </a:rPr>
              <a:t>aproximadament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  <a:ea typeface="Courier New"/>
              </a:rPr>
              <a:t>"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Si no es pot determinar o estimar fàcilment, ometeu-l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Useu els símbols de l'apendix B,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llista B.7, que s’apliquin a les unitats de temp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 300 $a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/ 50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 300 ## $a1 disc àudio(45 min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500 ## $aDuració: aproximadament 30 mi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es tracta d'un recurs de música notad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75325-710C-416C-B302-5D021809E6A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Informació sobre la tesi o la memòria (RDA 7.9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25056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bast =</a:t>
            </a: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 "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és una informació sobre una obra presentada com a part dels requisits formals per a l’obtenció d’un títol acadèmic."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Obtingueu la informació sobre la tesi o la memòria de qualsevol fon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Enregistreu la informació següent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a) el títol per al qual l’autor era candidat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b) el nom de la institució o la facultat en la qual es va presentar la tesi, 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c) l’any d’obtenció del títol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 502 $b, $c, $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502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octorat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c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Universitat de Barcelona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d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197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AF935-AC94-4AA8-BC01-7483D38AF0B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sum del contingut (RDA 7.1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ELEMENT BÀSIC PER A LA BC I EL CCUC </a:t>
            </a:r>
            <a:r>
              <a:rPr b="0" i="1" lang="ca-ES" sz="2200" spc="-1" strike="noStrike">
                <a:solidFill>
                  <a:srgbClr val="000000"/>
                </a:solidFill>
                <a:latin typeface="Calibri"/>
              </a:rPr>
              <a:t>per a materials d'arxiu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Abast = "és una síntesi, un sumari, una sinopsi, etc., del contingut del recurs."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Font: Obtingueu la informació que s’ha d’usar en resumir el contingut de qualsevol fon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Proporcioneu un resum breu i objectiu del contingut del recurs si aquesta informació es considera important per a la identificació o la selecció i no s’ha enregistrat informació suficient en una altra part de la descripció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 52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520 ## $aActes, llistes de membres i de cotitzacions, periòdics, llibres d’entrades i sortides, formularis, circulars i correspondència d’un grup local del sindicat de fusters de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E69EF-5CA3-4E56-A0FA-DE732539517D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Lloc i data de captura (RDA </a:t>
            </a: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7.1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bast</a:t>
            </a: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 = "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són el lloc i la data associats amb la captura (és a dir, l’enregistrament, la filmació, etc.) del contingut d’un recurs."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Font</a:t>
            </a: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qualsevol fon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Enregistreu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Lloc: l’estudi concret, la sala del concert, etc., quan s’aplica i es pot determinar fàcilment </a:t>
            </a: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la ciutat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Data:</a:t>
            </a: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l’any, el mes, el dia i l’hora quan s’apliqu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 033, 518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Ex.: 033 20 $a20081020$a20081022$b6564$cB3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    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518 ## $aEnregistrat en directe: 20-22 d'octubre de 2008, Sala Luz de Gas, Barcelona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55877-2552-442A-9889-63D3BD30FD4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Llengua del contingut (RDA 7.1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bast = "és la llengua usada per expressar el contingut d’un recurs."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Font: qualsevol fo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Enregistreu les particularitats de la llengua o les llengües usades per expressar el contingut del recurs si es consideren importants per a la identificació o la selecció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MARC</a:t>
            </a:r>
            <a:r>
              <a:rPr b="0" lang="ca-ES" sz="3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008/35-37, 041</a:t>
            </a:r>
            <a:r>
              <a:rPr b="0" lang="ca-ES" sz="33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ca-ES" sz="33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546</a:t>
            </a:r>
            <a:r>
              <a:rPr b="0" lang="ca-ES" sz="33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(segons el ca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E2E75-F56E-4F15-8604-136A041BBBE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000000"/>
                </a:solidFill>
                <a:latin typeface="Calibri"/>
              </a:rPr>
              <a:t>Vocabularis controlats per</a:t>
            </a:r>
            <a:r>
              <a:rPr b="0" lang="ca-E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a-ES" sz="3600" spc="-1" strike="noStrike">
                <a:solidFill>
                  <a:srgbClr val="000000"/>
                </a:solidFill>
                <a:latin typeface="Calibri"/>
              </a:rPr>
              <a:t>al</a:t>
            </a:r>
            <a:br>
              <a:rPr sz="3600"/>
            </a:br>
            <a:r>
              <a:rPr b="1" lang="ca-ES" sz="3600" spc="-1" strike="noStrike">
                <a:solidFill>
                  <a:srgbClr val="000000"/>
                </a:solidFill>
                <a:latin typeface="Calibri"/>
              </a:rPr>
              <a:t>tipus de contingut, suport i suport físi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24000" y="1600200"/>
            <a:ext cx="88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Llistes tancades: RDA 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6.9.1.3, 3.2.1.3, 3.3.1.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i hi ha més d'un terme apropiat, hi ha dues opc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registrar-los tots. Repetiu el camp compl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scollir el terme que representi el contingut, suport o suport físic predominant o substanci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i es desconeix la informació s'enregistra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1" i="1" lang="ca-ES" sz="2800" spc="-1" strike="noStrike">
                <a:solidFill>
                  <a:srgbClr val="376092"/>
                </a:solidFill>
                <a:latin typeface="Calibri"/>
              </a:rPr>
              <a:t>no especificat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"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i cap terme és apropiat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s’enregistra 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1" i="1" lang="ca-ES" sz="2800" spc="-1" strike="noStrike">
                <a:solidFill>
                  <a:srgbClr val="376092"/>
                </a:solidFill>
                <a:latin typeface="Calibri"/>
              </a:rPr>
              <a:t>altre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"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0CE7E-C470-4ACA-A681-A1ECB1F6983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Forma de la notació (RDA 7.1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Abast = "és un conjunt de caràcters i/o de símbols usat per expressar el contingut d’un recurs."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Font: qualsevol fon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Enregistreu 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a) l’escriptur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b) la forma de la notació musical usada per expressar el contingut musical (p. ex., notació alfabètica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c) la forma de la notació tàctil (per ex., braill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d) la forma de la notació del moviment (p. ex., notació de dansa per traços d’acció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 546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Ex.: 546 ## $bNotació en pentagram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B0A85-7100-4214-B1D0-AAC3116671C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4 CuadroTexto"/>
          <p:cNvSpPr/>
          <p:nvPr/>
        </p:nvSpPr>
        <p:spPr>
          <a:xfrm>
            <a:off x="6804000" y="6381720"/>
            <a:ext cx="151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Calibri"/>
              </a:rPr>
              <a:t>Act. abril 2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000000"/>
                </a:solidFill>
                <a:latin typeface="Calibri"/>
              </a:rPr>
              <a:t>Contingut suplementari (RDA 7.16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PER A LA BC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(no per al CCU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Abast = "és un contingut (per exemple, un índex, una bibliografia, un apèndix) concebut per complementar el contingut principal d’un recurs.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Font: qualsevol fo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 504 i 5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500 ## $aInclou índe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504 ## $aBibliografia: pàgines 859-910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504 ##</a:t>
            </a: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$aInclou bibliografies i índe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747D4-8948-4597-823D-5E90BDB1BDC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úsica nota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ELEMENTS BÀSICS PER A LA BC I EL CCU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Format de la música notada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(RDA 7.20 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p. ex., partitura voc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Repartiment de l’execució d’un contingut musical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( RDA 7.21 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p. ex., reducció per a clarinet i pian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500</a:t>
            </a:r>
            <a:br>
              <a:rPr sz="2800"/>
            </a:b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D2DB0-EE3E-4093-BE9B-3860A41A9D15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cursos cartogràf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39280" y="1341000"/>
            <a:ext cx="81471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ELEMENTS BÀSICS PER A LA BC I EL CCU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68200" indent="-268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scala horitzontal (RDA 7.25.3 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68200" indent="-268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scala vertical (RDA 7.25.4 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68200" indent="-268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Informació d'escala addicional (RDA 7.25.5 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68200" indent="-268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Projecció del contingut cartogràfic (RDA 7.26 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MARC 25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3D4A3-A87F-442B-AB5B-390CFE09799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5 CuadroTexto"/>
          <p:cNvSpPr/>
          <p:nvPr/>
        </p:nvSpPr>
        <p:spPr>
          <a:xfrm>
            <a:off x="6588000" y="6381720"/>
            <a:ext cx="16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Calibri"/>
              </a:rPr>
              <a:t>Act. gener 2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Premis (RDA 7.28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bast = "és un reconeixement formal d’excel·lència, etc., del contingut d’un recurs, concedit per un organisme amb capacitat de concedir premis."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registreu la informació sobre els premis si es considera important per a la identificació o la selecci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58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586 8# $aOscar al millor documental 2010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37617-E170-4A20-93AD-7AC61C477DF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200" spc="-1" strike="noStrike">
                <a:solidFill>
                  <a:srgbClr val="000000"/>
                </a:solidFill>
                <a:latin typeface="Calibri"/>
              </a:rPr>
              <a:t>Pregunt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54246-9049-41F8-B98E-DDD08DECC66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ipus de contingut (RDA 6.9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8000" y="981000"/>
            <a:ext cx="828036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bast = "... forma fonamental de comunicació en què s’expressa el contingut i el sentit humà per mitjà del qual s’ha de percebre."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Termes de la Taula 6.1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684360" y="2932200"/>
            <a:ext cx="7381800" cy="1892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Ex.llibr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Capçalera/06 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6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text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txt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CD de mús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Capçalera/06 = 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6 ##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música executada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prm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8C913-A08B-4996-9EDD-F4FBBC89ACB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5 CuadroTexto"/>
          <p:cNvSpPr/>
          <p:nvPr/>
        </p:nvSpPr>
        <p:spPr>
          <a:xfrm>
            <a:off x="395280" y="5013360"/>
            <a:ext cx="8280360" cy="14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Arial"/>
              </a:rPr>
              <a:t>Concreció 6.9.1.3 Alternativa: </a:t>
            </a:r>
            <a:r>
              <a:rPr b="0" i="1" lang="ca-ES" sz="2000" spc="-1" strike="noStrike">
                <a:solidFill>
                  <a:srgbClr val="000000"/>
                </a:solidFill>
                <a:latin typeface="Arial"/>
              </a:rPr>
              <a:t>S'aplica</a:t>
            </a: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. Si hi ha més d'un terme apropiat, enregistreu el tipus de contingut que correspongui a la part predominant o parts substancials del recu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2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MARC 336 $a $b $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41280"/>
            <a:ext cx="8229600" cy="78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ipus de suport (RDA 3.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11280" y="1052640"/>
            <a:ext cx="8229600" cy="20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Abast = ".. reflecteix el tipus general de l’aparell d’intermediació requerit per visionar, reproduir, fer funcionar, etc., el contingut d’un recurs.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Termes de la Taula 3.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34C4F-4A1C-4DF2-B337-83BBDA1CF66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900000" y="3218400"/>
            <a:ext cx="73821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Ex.llibr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7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CD de mús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7 ##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àudio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6 Rectángulo"/>
          <p:cNvSpPr/>
          <p:nvPr/>
        </p:nvSpPr>
        <p:spPr>
          <a:xfrm>
            <a:off x="684360" y="4724280"/>
            <a:ext cx="79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Concreció 3.2 Alternativa: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S'aplica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. Si hi ha més d'un terme apropiat, enregistreu el tipus de suport que correspongui a la part predominant o parts substancials del recu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 337 $a $b $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ipus de suport físic (RDA 3.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26828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Abast= "... el format del suport d’emmagatzematge i d’allotjament d’un suport físic en combinació amb el tipus d’aparell de mediació requerit per visionar, reproduir, fer funcionar, etc. el contingut d’un recurs."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Termes de la llista en 3.3.1.3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4CA35-5BFA-47E2-A66A-3A88EB289F9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826920" y="3147840"/>
            <a:ext cx="73821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Ex.llibr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8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a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volum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b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nc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2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rda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CD de mús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8 ##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disc àudio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d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5 Rectángulo"/>
          <p:cNvSpPr/>
          <p:nvPr/>
        </p:nvSpPr>
        <p:spPr>
          <a:xfrm>
            <a:off x="611280" y="4724280"/>
            <a:ext cx="79214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alibri"/>
              </a:rPr>
              <a:t>Concreció 3.3 Alternativa: </a:t>
            </a:r>
            <a:r>
              <a:rPr b="0" i="1" lang="ca-ES" sz="2200" spc="-1" strike="noStrike">
                <a:solidFill>
                  <a:srgbClr val="000000"/>
                </a:solidFill>
                <a:latin typeface="Calibri"/>
              </a:rPr>
              <a:t>S'aplica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. Si hi ha més d'un terme apropiat, enregistreu el tipus de suport físic que correspongui a la part predominant o parts substancials del recu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 338 $a $b $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amps MARC 336-337-338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B1CF4-D696-4AFD-A825-DE21A47592C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5 Rectángulo"/>
          <p:cNvSpPr/>
          <p:nvPr/>
        </p:nvSpPr>
        <p:spPr>
          <a:xfrm>
            <a:off x="1187280" y="1225440"/>
            <a:ext cx="6551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Ex.llibr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Capçalera/06 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6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text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txt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7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8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a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volum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b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nc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2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rda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Ex.llibre principalment il·lustra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Capçalera/06 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6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text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txt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336 ##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imatge fixa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ti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7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8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a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volum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b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nc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2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rda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CD mús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Capçalera/06 = 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6 ##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música executada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prm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7 ##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àudio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8 ##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disc àudio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d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7-21T16:06:38Z</dcterms:created>
  <dc:creator>Biblioteca de Catalunya</dc:creator>
  <dc:description/>
  <dc:language>en-US</dc:language>
  <cp:lastModifiedBy>vilsnb</cp:lastModifiedBy>
  <dcterms:modified xsi:type="dcterms:W3CDTF">2017-04-21T07:27:31Z</dcterms:modified>
  <cp:revision>490</cp:revision>
  <dc:subject/>
  <dc:title>Mòdul 2:  Descripció de Suports i Identificació d'Obres</dc:title>
</cp:coreProperties>
</file>